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DC86-B01D-42B9-AD25-49CE2AD9C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938-BB05-476E-ABF2-6EECC926B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450D-C832-43BB-ABE8-B8522D58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3F0D-B188-4444-B5FF-194856F17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F01F-FBC2-49E5-A1AC-F146CCF3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E8FC-10A8-4740-B3AF-DF39EFF0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EA3B-9F42-4D98-B4AF-A528E5207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C4DC-629B-4EDA-8801-AC93E9C4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3695-D479-4D5C-82FF-9B75650B0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B024-D949-4FF6-96B2-1BA0B238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3DC0-06A6-4E53-A58C-C99A3BAA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4F84-FF55-4CBF-87EC-221637CE8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0F4C9-D8B1-4C27-81BE-D04931318C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05080" y="404640"/>
            <a:ext cx="5040000" cy="2087640"/>
          </a:xfrm>
          <a:prstGeom prst="roundRect">
            <a:avLst>
              <a:gd name="adj" fmla="val 5778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09232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81304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3376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254480" y="5707080"/>
            <a:ext cx="647640" cy="647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92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100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61080" y="60148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05440" y="50529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09232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08320" y="5059440"/>
            <a:ext cx="936720" cy="360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676680" y="4051440"/>
            <a:ext cx="13683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676680" y="28987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620640"/>
            <a:ext cx="720720" cy="180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47780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7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400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184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96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81800" y="170028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620640"/>
            <a:ext cx="720720" cy="72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048520" y="5367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076720" y="2905200"/>
            <a:ext cx="1046160" cy="79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443640" y="2911320"/>
            <a:ext cx="1046160" cy="792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343240" y="2997360"/>
            <a:ext cx="1150920" cy="647640"/>
          </a:xfrm>
          <a:prstGeom prst="octagon">
            <a:avLst>
              <a:gd name="adj" fmla="val 13236"/>
            </a:avLst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5835600" y="4294080"/>
            <a:ext cx="2263320" cy="1412640"/>
            <a:chOff x="5835600" y="4294080"/>
            <a:chExt cx="2263320" cy="1412640"/>
          </a:xfrm>
        </p:grpSpPr>
        <p:sp>
          <p:nvSpPr>
            <p:cNvPr id="67" name=""/>
            <p:cNvSpPr/>
            <p:nvPr/>
          </p:nvSpPr>
          <p:spPr>
            <a:xfrm>
              <a:off x="58356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1500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394760" y="5059080"/>
              <a:ext cx="700560" cy="64764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83884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61860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398360" y="4294080"/>
              <a:ext cx="700560" cy="647640"/>
            </a:xfrm>
            <a:prstGeom prst="octagon">
              <a:avLst>
                <a:gd name="adj" fmla="val 13236"/>
              </a:avLst>
            </a:prstGeom>
            <a:solidFill>
              <a:srgbClr val="bbe0e3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2575080" y="320508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6944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8520" y="45752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46740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240680" y="4365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dy Segm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8008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46272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245360" y="5049720"/>
            <a:ext cx="1008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 Generato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19240" y="3170160"/>
            <a:ext cx="8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 Fig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54760" y="316548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ransform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539040" y="3179880"/>
            <a:ext cx="945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d 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2160" y="417600"/>
            <a:ext cx="1113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trol Fi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76500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owd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57280" y="1922400"/>
            <a:ext cx="79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arac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303640" y="192240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y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19400" y="1925640"/>
            <a:ext cx="90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9360" y="1854360"/>
            <a:ext cx="7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se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538960" y="193212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tu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83240" y="83664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620640"/>
            <a:ext cx="714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cene Fi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042920" y="99072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42920" y="2060640"/>
            <a:ext cx="43344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88200" y="1197000"/>
            <a:ext cx="476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6ff33"/>
                </a:solidFill>
                <a:latin typeface="Arial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636560" y="1370160"/>
            <a:ext cx="342720" cy="294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992" y="3338"/>
                </a:moveTo>
                <a:arcTo wR="10800" hR="10800" stAng="-8177751" swAng="19475640"/>
                <a:lnTo>
                  <a:pt x="10800" y="10800"/>
                </a:lnTo>
                <a:close/>
              </a:path>
              <a:path fill="none" w="21600" h="21600">
                <a:moveTo>
                  <a:pt x="2992" y="3338"/>
                </a:moveTo>
                <a:arcTo wR="10800" hR="10800" stAng="-8177751" swAng="19475640"/>
              </a:path>
            </a:pathLst>
          </a:custGeom>
          <a:noFill/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076720" y="1341360"/>
            <a:ext cx="0" cy="358920"/>
          </a:xfrm>
          <a:prstGeom prst="line">
            <a:avLst/>
          </a:prstGeom>
          <a:ln w="57240">
            <a:solidFill>
              <a:srgbClr val="66ff3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286000" y="20700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68720" y="207972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208908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43280" y="209880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59480" y="2108160"/>
            <a:ext cx="73080" cy="0"/>
          </a:xfrm>
          <a:prstGeom prst="line">
            <a:avLst/>
          </a:prstGeom>
          <a:ln w="572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284720" y="1700280"/>
            <a:ext cx="0" cy="115236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79640" y="2421000"/>
            <a:ext cx="6476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00360" y="2421000"/>
            <a:ext cx="1429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059280" y="2421000"/>
            <a:ext cx="504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005440" y="45021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771640" y="3687840"/>
            <a:ext cx="1368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130640" y="3683160"/>
            <a:ext cx="287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2555640" y="4840200"/>
            <a:ext cx="215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71640" y="4840200"/>
            <a:ext cx="792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346640" y="4840200"/>
            <a:ext cx="287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3T15:08:52Z</dcterms:created>
  <dc:creator>Chris Bartlett</dc:creator>
  <dc:description/>
  <dc:language>en-US</dc:language>
  <cp:lastModifiedBy>Chris Bartlett</cp:lastModifiedBy>
  <dcterms:modified xsi:type="dcterms:W3CDTF">2005-12-03T15:40:12Z</dcterms:modified>
  <cp:revision>8</cp:revision>
  <dc:subject/>
  <dc:title>Slide 1</dc:title>
</cp:coreProperties>
</file>