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E034-2C57-4B00-AF68-435F223E5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1B21-09C8-4068-B270-9796284E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E9C4-A450-41C1-8DE6-832ACC492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BB01-0345-4BBC-9E43-48D5CA0E2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5EB0-70A0-425F-9E97-13CC2A83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CF6C-B23B-4E7E-964C-D91E3B7A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8E74-59A7-4046-846E-AA2A33EC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1D42-3A38-42C6-8758-609FA39B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5F52-0EE4-440D-A8CE-EBFEE763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9803-F62E-47EF-9183-5D613E0A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952D-3E4E-4BFC-B141-DB4B575F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D37F-A321-407D-91F0-A9D7B4F3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0B00-34B2-47B3-820F-97218CD3A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5080" y="404640"/>
            <a:ext cx="5040000" cy="2087640"/>
          </a:xfrm>
          <a:prstGeom prst="roundRect">
            <a:avLst>
              <a:gd name="adj" fmla="val 57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9232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304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3376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5448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2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00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61080" y="6014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05440" y="5052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9232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08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7668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6680" y="28987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20640"/>
            <a:ext cx="7207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780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7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184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96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1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48520" y="5367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905200"/>
            <a:ext cx="10461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43640" y="29113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3240" y="2997360"/>
            <a:ext cx="1150920" cy="647640"/>
          </a:xfrm>
          <a:prstGeom prst="octagon">
            <a:avLst>
              <a:gd name="adj" fmla="val 13236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835600" y="4294080"/>
            <a:ext cx="2263320" cy="1412640"/>
            <a:chOff x="5835600" y="4294080"/>
            <a:chExt cx="2263320" cy="1412640"/>
          </a:xfrm>
        </p:grpSpPr>
        <p:sp>
          <p:nvSpPr>
            <p:cNvPr id="67" name=""/>
            <p:cNvSpPr/>
            <p:nvPr/>
          </p:nvSpPr>
          <p:spPr>
            <a:xfrm>
              <a:off x="58356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50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476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3884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1860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9836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575080" y="320508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944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8520" y="4575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6740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406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8008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6272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4536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19240" y="31701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Fig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54760" y="316548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39040" y="3179880"/>
            <a:ext cx="94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2160" y="41760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76500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owd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57280" y="192240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03640" y="19224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19400" y="1925640"/>
            <a:ext cx="9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9360" y="1854360"/>
            <a:ext cx="7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8960" y="19321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240" y="836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62064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e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99072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06064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88200" y="1197000"/>
            <a:ext cx="47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36560" y="1370160"/>
            <a:ext cx="342720" cy="29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92" y="3338"/>
                </a:moveTo>
                <a:arcTo wR="10800" hR="10800" stAng="-8177751" swAng="19475640"/>
                <a:lnTo>
                  <a:pt x="10800" y="10800"/>
                </a:lnTo>
                <a:close/>
              </a:path>
              <a:path fill="none" w="21600" h="21600">
                <a:moveTo>
                  <a:pt x="2992" y="3338"/>
                </a:moveTo>
                <a:arcTo wR="10800" hR="10800" stAng="-8177751" swAng="19475640"/>
              </a:path>
            </a:pathLst>
          </a:custGeom>
          <a:noFill/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1341360"/>
            <a:ext cx="0" cy="358920"/>
          </a:xfrm>
          <a:prstGeom prst="line">
            <a:avLst/>
          </a:prstGeom>
          <a:ln w="5724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0700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68720" y="207972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208908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20988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59480" y="210816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1700280"/>
            <a:ext cx="0" cy="115236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242100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2421000"/>
            <a:ext cx="142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059280" y="242100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5440" y="4502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771640" y="3687840"/>
            <a:ext cx="136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30640" y="368316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55640" y="48402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1640" y="484020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46640" y="48402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5:08:52Z</dcterms:created>
  <dc:creator>Chris Bartlett</dc:creator>
  <dc:description/>
  <dc:language>en-US</dc:language>
  <cp:lastModifiedBy>Chris Bartlett</cp:lastModifiedBy>
  <dcterms:modified xsi:type="dcterms:W3CDTF">2005-12-03T15:40:12Z</dcterms:modified>
  <cp:revision>8</cp:revision>
  <dc:subject/>
  <dc:title>Slide 1</dc:title>
</cp:coreProperties>
</file>