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6858000" cy="14403388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EDB2-066E-4B58-B921-2FC1B3462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6172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8323920"/>
            <a:ext cx="6172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C62B-B034-4E05-B2FB-819108CFD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832392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832392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E4DA-C2B1-4748-BF30-FD72FC546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336024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336024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832392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832392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832392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039E-5B17-4B29-9199-8D8A6E752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3360240"/>
            <a:ext cx="6172200" cy="95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6B6B-3C59-4CA3-8F41-A285D7A9F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617220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0740-6EF0-4DB4-9343-B741EB51F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BEAA-1BF8-4D38-B741-8280DDB89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841A-BF34-48D8-9D6B-0F0B6746E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577800"/>
            <a:ext cx="6172200" cy="11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A77C-373D-4929-9B42-C73EC3595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832392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E51C-E139-4CF2-859E-1EAA07F05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832392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5494-C442-489E-9B68-434B6E744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8323920"/>
            <a:ext cx="6172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5E35-238F-48E8-BA1E-F221A91BA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3360240"/>
            <a:ext cx="617220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13114440"/>
            <a:ext cx="16002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13114440"/>
            <a:ext cx="21715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13114440"/>
            <a:ext cx="16002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00640-DEEF-43D4-B073-8B08503B66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65360" y="5172120"/>
            <a:ext cx="79236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537000" y="8675640"/>
            <a:ext cx="7920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25800" y="5051520"/>
            <a:ext cx="1797120" cy="2952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25800" y="8443800"/>
            <a:ext cx="1797120" cy="5796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403280" y="6663960"/>
            <a:ext cx="749520" cy="324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809720" y="4179960"/>
            <a:ext cx="1968480" cy="49276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809720" y="8524800"/>
            <a:ext cx="196848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394080" y="7332840"/>
            <a:ext cx="7920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809720" y="7180200"/>
            <a:ext cx="196848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806480" y="5027760"/>
            <a:ext cx="1968480" cy="2808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25800" y="6643800"/>
            <a:ext cx="1797120" cy="13762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698920" y="3701880"/>
            <a:ext cx="14414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222800" y="5070600"/>
            <a:ext cx="6825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32280" y="5070600"/>
            <a:ext cx="24768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32280" y="3166920"/>
            <a:ext cx="1079280" cy="106236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32000" y="363384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332000" y="291456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32000" y="244944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32000" y="196056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332000" y="122076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811160" y="3257640"/>
            <a:ext cx="1968840" cy="8316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811160" y="3517920"/>
            <a:ext cx="196884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403280" y="1188396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436760" y="1124892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405080" y="10083960"/>
            <a:ext cx="86328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11160" y="1643040"/>
            <a:ext cx="1968840" cy="5698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811160" y="2297160"/>
            <a:ext cx="196884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811160" y="2658960"/>
            <a:ext cx="1968840" cy="5144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811160" y="9202680"/>
            <a:ext cx="1968840" cy="177336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11160" y="11057040"/>
            <a:ext cx="1968840" cy="3236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811160" y="11472840"/>
            <a:ext cx="1968840" cy="93996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811160" y="955800"/>
            <a:ext cx="1968840" cy="54612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7800" y="14302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07800" y="1806480"/>
            <a:ext cx="1224000" cy="3114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07800" y="2290680"/>
            <a:ext cx="1224000" cy="3114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07800" y="275904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7800" y="347832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07800" y="65152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07800" y="992520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7800" y="11082240"/>
            <a:ext cx="1224000" cy="3114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07800" y="11667960"/>
            <a:ext cx="1224000" cy="4320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7800" y="1221912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7800" y="10540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79600" y="1047240"/>
            <a:ext cx="74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Animat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24000" y="10350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-36360" y="11080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760920" y="11080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041560" y="1197000"/>
            <a:ext cx="1427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ompression Code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835280" y="117216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070000" y="11811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867280" y="11811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041560" y="988920"/>
            <a:ext cx="1859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Utilities and Include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835280" y="93348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077920" y="128124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077920" y="103680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75200" y="103680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79600" y="1439640"/>
            <a:ext cx="93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Discussion Foru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4256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-38160" y="174312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-38160" y="14986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759120" y="14986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9600" y="1790280"/>
            <a:ext cx="103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Image and Texture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4000" y="178488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-38160" y="185724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-38160" y="210168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-38160" y="18572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759120" y="18572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041560" y="1906560"/>
            <a:ext cx="1522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xture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835280" y="187380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041560" y="1654200"/>
            <a:ext cx="1378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mage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835280" y="162144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070000" y="17715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867280" y="17715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79600" y="2343960"/>
            <a:ext cx="68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Link Si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4000" y="227484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-17640" y="234792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-17640" y="234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780000" y="234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041560" y="2314440"/>
            <a:ext cx="923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d Lin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35280" y="228024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070000" y="234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867280" y="234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9600" y="2757240"/>
            <a:ext cx="8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Magazines, Lists, and FAQ'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4000" y="27421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9360" y="266544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360" y="290988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360" y="26654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807000" y="26654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041560" y="2894040"/>
            <a:ext cx="1192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nline Magazin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835280" y="286380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041560" y="2654280"/>
            <a:ext cx="779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Q'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835280" y="261936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575080" y="298116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75080" y="249228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372360" y="249228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79600" y="3536280"/>
            <a:ext cx="896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Model Si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24000" y="34560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9360" y="316872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360" y="341316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9360" y="31687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07000" y="31687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041560" y="3544920"/>
            <a:ext cx="1282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X, WRL, DXF, COB, OBJ, IO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835280" y="349452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041560" y="3270240"/>
            <a:ext cx="1139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S Mode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835280" y="323100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57360" y="30243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254640" y="30243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186080" y="3932280"/>
            <a:ext cx="8985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xed Forma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43280" y="2852640"/>
            <a:ext cx="0" cy="978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041560" y="3817800"/>
            <a:ext cx="1522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arge / Mixed Collec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35280" y="375804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476440" y="391788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476440" y="36734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273720" y="36734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9600" y="6538320"/>
            <a:ext cx="68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24000" y="64760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08000" y="4062240"/>
            <a:ext cx="0" cy="24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905280" y="4062240"/>
            <a:ext cx="0" cy="24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130480" y="50436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nts and Font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838160" y="4998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130480" y="47736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vers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838160" y="47307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130480" y="4503600"/>
            <a:ext cx="1550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ercial 3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38160" y="446292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130480" y="4235400"/>
            <a:ext cx="14796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mical/Molecular 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838160" y="419580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673360" y="386064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673360" y="483876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673360" y="3860640"/>
            <a:ext cx="0" cy="978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0640" y="3860640"/>
            <a:ext cx="0" cy="978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383080" y="46101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0480" y="719784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Unofficial  Patches and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838160" y="714528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130480" y="6929280"/>
            <a:ext cx="1722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Official Versions &amp;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838160" y="687708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130480" y="665964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838160" y="66092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130480" y="63896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838160" y="63410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130480" y="6119640"/>
            <a:ext cx="1342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sc. POV-Ray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838160" y="607212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130480" y="58514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sh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838160" y="580392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130480" y="558180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Syste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838160" y="553608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130480" y="531180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eight Field Modelling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838160" y="526788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09720" y="4842000"/>
            <a:ext cx="3878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709720" y="6797520"/>
            <a:ext cx="3878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709720" y="4842000"/>
            <a:ext cx="0" cy="1955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588000" y="4842000"/>
            <a:ext cx="0" cy="1955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187880" y="773424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970440" y="773424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187880" y="7470720"/>
            <a:ext cx="1326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970440" y="747072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187880" y="720900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970440" y="72090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187880" y="694548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2.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970440" y="694548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187880" y="6683400"/>
            <a:ext cx="1617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970440" y="66834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535800" y="6222960"/>
            <a:ext cx="0" cy="1222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130480" y="85456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oftWare Graphics - Misc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838160" y="848736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30480" y="82756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plines and Pi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838160" y="821844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130480" y="80056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ells, Spirals, and Helix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838160" y="795024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130480" y="77374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Raytracing and Render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838160" y="768240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130480" y="7467480"/>
            <a:ext cx="157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grams Under Develop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838160" y="741420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719440" y="802152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719440" y="6799320"/>
            <a:ext cx="0" cy="1222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516720" y="6799320"/>
            <a:ext cx="0" cy="1222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199040" y="8744040"/>
            <a:ext cx="1282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hotoShop and PSP Filter Plugi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81600" y="8731080"/>
            <a:ext cx="228600" cy="2448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199040" y="8470800"/>
            <a:ext cx="995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TP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81600" y="84708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535800" y="7677000"/>
            <a:ext cx="0" cy="489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130480" y="881532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xture Editors and Too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838160" y="875556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719440" y="802152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719440" y="826596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719440" y="80215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516720" y="80215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9600" y="9928080"/>
            <a:ext cx="968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24000" y="98964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041560" y="10704600"/>
            <a:ext cx="159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versity Graphics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839960" y="1064736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041560" y="10488600"/>
            <a:ext cx="1860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solid construction metho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839960" y="1040292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041560" y="10228320"/>
            <a:ext cx="1355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gramming 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839960" y="101588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041560" y="10032840"/>
            <a:ext cx="13557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isc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839960" y="991440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041560" y="9788400"/>
            <a:ext cx="1643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th and Geometry Resources and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839960" y="966996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41560" y="9435960"/>
            <a:ext cx="1716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uman - Animal Motion Stud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839960" y="94255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41560" y="9220320"/>
            <a:ext cx="1355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act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839960" y="918108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79600" y="1112040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4000" y="1105740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041560" y="11101320"/>
            <a:ext cx="1112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841400" y="1104156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79600" y="1177128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Include, Macro, and Object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24000" y="117241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041560" y="12176280"/>
            <a:ext cx="1022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ject and Scene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839960" y="120686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041560" y="11795040"/>
            <a:ext cx="1022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cro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839960" y="117666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041560" y="11509200"/>
            <a:ext cx="1022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839960" y="114638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79600" y="1224756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eople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24000" y="1218780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981600" y="3893040"/>
            <a:ext cx="24912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186080" y="3687840"/>
            <a:ext cx="546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O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981600" y="3648600"/>
            <a:ext cx="24912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186080" y="3443400"/>
            <a:ext cx="401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X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981600" y="3404160"/>
            <a:ext cx="24912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186080" y="3198960"/>
            <a:ext cx="546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981600" y="3159720"/>
            <a:ext cx="24912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844280" y="288720"/>
            <a:ext cx="230508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Hierarc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1476360" y="7277040"/>
            <a:ext cx="1592280" cy="2700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170080" y="6692760"/>
            <a:ext cx="1968480" cy="111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874880" y="3843360"/>
            <a:ext cx="137628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173320" y="2978280"/>
            <a:ext cx="1968480" cy="352872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189160" y="2994120"/>
            <a:ext cx="1936800" cy="287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93720" y="972360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170080" y="7155000"/>
            <a:ext cx="1968480" cy="285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754440" y="3433680"/>
            <a:ext cx="7920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170080" y="3281400"/>
            <a:ext cx="196848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286160" y="2978280"/>
            <a:ext cx="1797120" cy="191916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176560" y="5924520"/>
            <a:ext cx="24768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68160" y="2104920"/>
            <a:ext cx="1224000" cy="398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95160" y="932184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68160" y="3643200"/>
            <a:ext cx="1224000" cy="41112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68160" y="254016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76440" y="8013600"/>
            <a:ext cx="1223640" cy="4320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95160" y="105616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40160" y="7455960"/>
            <a:ext cx="124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imation Utilities &amp; Compression Code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205000" y="744696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939960" y="2070000"/>
            <a:ext cx="96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sgroups, Discussion Forums &amp; FAQ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84360" y="2116080"/>
            <a:ext cx="2268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192560" y="122400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95280" y="158256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95280" y="1582560"/>
            <a:ext cx="0" cy="24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503440" y="1496880"/>
            <a:ext cx="0" cy="489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965160" y="9776880"/>
            <a:ext cx="96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lated Links Si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04880" y="9711360"/>
            <a:ext cx="22716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15800" y="20732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503440" y="20732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42800" y="23907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008160" y="2217600"/>
            <a:ext cx="0" cy="489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966960" y="9319680"/>
            <a:ext cx="67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Object Sear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42800" y="28940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939960" y="3622680"/>
            <a:ext cx="103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Specific Programs, Utilities and Pat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84360" y="3680280"/>
            <a:ext cx="2268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41440" y="378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490840" y="59482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nts and Font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494080" y="43704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vers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176560" y="428616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816520" y="43354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490840" y="3298680"/>
            <a:ext cx="1722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Unofficial  Patches and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176560" y="321948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490840" y="302256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Official Versions &amp;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176560" y="295488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490840" y="357984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176560" y="348660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490840" y="6804000"/>
            <a:ext cx="158580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ling, Rendering and Other Raytrac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98520" y="674424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486160" y="617868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sc. POV-Ray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176560" y="613152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90840" y="48830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sh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176560" y="481860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490840" y="46418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Syste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176560" y="455292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494080" y="411012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eight Field Modelling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548240" y="406872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330800" y="406872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548240" y="3805200"/>
            <a:ext cx="1326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330800" y="380520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548240" y="354348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330800" y="354348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548240" y="3279600"/>
            <a:ext cx="1434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2.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330800" y="3279600"/>
            <a:ext cx="228600" cy="2448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548240" y="3017880"/>
            <a:ext cx="1617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330800" y="301788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490840" y="7175520"/>
            <a:ext cx="1514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raphics SoftW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198520" y="711720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490840" y="54198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plines and Pi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176560" y="535140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490840" y="51498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ells, Spirals, and Helix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176560" y="508536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152880" y="6524640"/>
            <a:ext cx="0" cy="1222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490840" y="56926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xture Editors and Too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176560" y="561816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152880" y="7746840"/>
            <a:ext cx="0" cy="24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939960" y="257796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74640" y="251136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947880" y="811692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Include, Macro, and Object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04880" y="805176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966960" y="1059012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Team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704880" y="10530360"/>
            <a:ext cx="22716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84360" y="8521560"/>
            <a:ext cx="122364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955800" y="855036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alle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04880" y="848988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76440" y="1547640"/>
            <a:ext cx="122364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826920" y="1582560"/>
            <a:ext cx="15224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ground Read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84360" y="1522440"/>
            <a:ext cx="2379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84360" y="8920080"/>
            <a:ext cx="122364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98400" y="8907480"/>
            <a:ext cx="23832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955800" y="8918280"/>
            <a:ext cx="102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mage/Texture  Sear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68160" y="713268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939960" y="7111800"/>
            <a:ext cx="96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704880" y="712152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540160" y="3833280"/>
            <a:ext cx="1249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imat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176560" y="3753360"/>
            <a:ext cx="2268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549680" y="4322880"/>
            <a:ext cx="1435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0480" y="1013616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906480" y="10166400"/>
            <a:ext cx="1082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aborativ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rojec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04880" y="1011240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916280" y="144360"/>
            <a:ext cx="2520720" cy="5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osed Hierarc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343400" y="432288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171880" y="3997800"/>
            <a:ext cx="2268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0200" y="9307440"/>
            <a:ext cx="2379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213000" y="725400"/>
            <a:ext cx="505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575160" y="725400"/>
            <a:ext cx="14292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575160" y="1057320"/>
            <a:ext cx="14292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789360" y="770040"/>
            <a:ext cx="1728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w Maintenance Categorie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789360" y="1092240"/>
            <a:ext cx="1441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re Dynamic Catego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4556160" y="457992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346640" y="457668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4095720" y="4888080"/>
            <a:ext cx="190440" cy="69840"/>
          </a:xfrm>
          <a:prstGeom prst="rect">
            <a:avLst/>
          </a:prstGeom>
          <a:solidFill>
            <a:srgbClr val="95ff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187880" y="4680000"/>
            <a:ext cx="1968480" cy="865080"/>
          </a:xfrm>
          <a:prstGeom prst="rect">
            <a:avLst/>
          </a:prstGeom>
          <a:solidFill>
            <a:srgbClr val="d7ff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262400" y="4681440"/>
            <a:ext cx="18972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stricted to  content related to POV-Ray. For example, Designed specifically for POV-Ray or outputs in a  POV-Ray specific forma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005360" y="648324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029120" y="67327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981600" y="69865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476360" y="6746760"/>
            <a:ext cx="1592280" cy="2700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170080" y="6162840"/>
            <a:ext cx="1968480" cy="11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178160" y="6408720"/>
            <a:ext cx="1698840" cy="72072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246560" y="6624720"/>
            <a:ext cx="19177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 or 3 Link to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in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Pages eac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835280" y="10285560"/>
            <a:ext cx="190440" cy="69840"/>
          </a:xfrm>
          <a:prstGeom prst="rect">
            <a:avLst/>
          </a:prstGeom>
          <a:solidFill>
            <a:srgbClr val="95ff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954080" y="10163160"/>
            <a:ext cx="1968480" cy="344520"/>
          </a:xfrm>
          <a:prstGeom prst="rect">
            <a:avLst/>
          </a:prstGeom>
          <a:solidFill>
            <a:srgbClr val="d7ff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978200" y="10186920"/>
            <a:ext cx="1944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elated Development Initiativ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787400" y="2131920"/>
            <a:ext cx="190800" cy="69840"/>
          </a:xfrm>
          <a:prstGeom prst="rect">
            <a:avLst/>
          </a:prstGeom>
          <a:solidFill>
            <a:srgbClr val="95ff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835280" y="10723680"/>
            <a:ext cx="190440" cy="69840"/>
          </a:xfrm>
          <a:prstGeom prst="rect">
            <a:avLst/>
          </a:prstGeom>
          <a:solidFill>
            <a:srgbClr val="95ff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785960" y="11383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785960" y="172728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808280" y="824544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785960" y="880596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785960" y="94345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1785960" y="98773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874880" y="3313080"/>
            <a:ext cx="137628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173320" y="2448000"/>
            <a:ext cx="1968480" cy="35290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2189160" y="2463840"/>
            <a:ext cx="1936800" cy="287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79440" y="751680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693720" y="9764640"/>
            <a:ext cx="122400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2170080" y="6624720"/>
            <a:ext cx="1968480" cy="285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754440" y="2903400"/>
            <a:ext cx="7920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170080" y="2751120"/>
            <a:ext cx="196848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286160" y="2448000"/>
            <a:ext cx="1797120" cy="18730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2176560" y="5394240"/>
            <a:ext cx="24768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952640" y="9779040"/>
            <a:ext cx="1968480" cy="28584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932120" y="2055960"/>
            <a:ext cx="1968480" cy="228600"/>
          </a:xfrm>
          <a:prstGeom prst="rect">
            <a:avLst/>
          </a:prstGeom>
          <a:solidFill>
            <a:srgbClr val="d7ff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68160" y="1574640"/>
            <a:ext cx="1224000" cy="398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95160" y="932508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68160" y="3112920"/>
            <a:ext cx="1224000" cy="4114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68160" y="20098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76440" y="7483320"/>
            <a:ext cx="1223640" cy="4320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95160" y="1061244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2540160" y="6926040"/>
            <a:ext cx="124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imation Utilities &amp; Compression Code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2205000" y="6850080"/>
            <a:ext cx="2271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2197080" y="7051680"/>
            <a:ext cx="23832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939960" y="1539720"/>
            <a:ext cx="96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sgroups, Discussion Forums &amp; FAQ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84360" y="15865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4192560" y="6937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5280" y="105264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95280" y="10526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503440" y="9669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965160" y="9817920"/>
            <a:ext cx="96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lated Links Si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92280" y="96764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15800" y="15429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978200" y="9796320"/>
            <a:ext cx="1522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nks to Links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763560" y="9818640"/>
            <a:ext cx="23832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503440" y="15429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442800" y="18604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008160" y="168768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966960" y="9322920"/>
            <a:ext cx="67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Object Sear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42800" y="23637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939960" y="3092400"/>
            <a:ext cx="103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Specific Programs, Utilities and Pat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84360" y="314964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541440" y="32576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490840" y="54180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nts and Font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008080" y="53355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494080" y="384012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vers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176560" y="375660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008080" y="6114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008080" y="629172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5816520" y="380520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490840" y="276876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Unofficial  Patches and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176560" y="268920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490840" y="249228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Official Versions &amp;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176560" y="242460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490840" y="304956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176560" y="2955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490840" y="6273720"/>
            <a:ext cx="158580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ling, Rendering and Other Raytrac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198520" y="6114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486160" y="564840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sc. POV-Ray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176560" y="56012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490840" y="4352760"/>
            <a:ext cx="1342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sh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176560" y="428832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2490840" y="411156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Syste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176560" y="402264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494080" y="35798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eight Field Modelling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176560" y="34898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4548240" y="353844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4330800" y="353844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4548240" y="3274920"/>
            <a:ext cx="1326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30800" y="327492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4548240" y="301320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4330800" y="30132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4548240" y="274968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2.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4330800" y="274968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4548240" y="2487600"/>
            <a:ext cx="1617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330800" y="24876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490840" y="6645240"/>
            <a:ext cx="1514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raphics SoftW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8520" y="65865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490840" y="488952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plines and Pi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176560" y="48218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490840" y="461952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ells, Spirals, and Helix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176560" y="455508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2198520" y="62870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3152880" y="5994360"/>
            <a:ext cx="0" cy="1222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2027160" y="674064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2027160" y="655308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490840" y="5162400"/>
            <a:ext cx="1309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xture Editors and Too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176560" y="508788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3152880" y="7216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425680" y="1180800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2170080" y="1177668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2505240" y="13598640"/>
            <a:ext cx="159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versity Graphics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2303640" y="135414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2503440" y="13382640"/>
            <a:ext cx="1671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solid construction metho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2303640" y="1329696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2505240" y="13122360"/>
            <a:ext cx="1355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gramming 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303640" y="1305288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2505240" y="12926880"/>
            <a:ext cx="1355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isc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2303640" y="128084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2505240" y="12682440"/>
            <a:ext cx="1643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th and Geometry Resources and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2303640" y="1256400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505240" y="12330000"/>
            <a:ext cx="1715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uman - Animal Motion Stud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03640" y="1231956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505240" y="12114360"/>
            <a:ext cx="1355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act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03640" y="120751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939960" y="204804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684360" y="18954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755640" y="2073240"/>
            <a:ext cx="2271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947880" y="758664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Include, Macro, and Object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531720" y="743796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98400" y="760464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690480" y="7435800"/>
            <a:ext cx="2271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31720" y="760464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966960" y="1064088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Team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711360" y="105811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8" name=""/>
          <p:cNvGrpSpPr/>
          <p:nvPr/>
        </p:nvGrpSpPr>
        <p:grpSpPr>
          <a:xfrm>
            <a:off x="387360" y="9122400"/>
            <a:ext cx="609480" cy="644040"/>
            <a:chOff x="387360" y="9122400"/>
            <a:chExt cx="609480" cy="644040"/>
          </a:xfrm>
        </p:grpSpPr>
        <p:sp>
          <p:nvSpPr>
            <p:cNvPr id="509" name=""/>
            <p:cNvSpPr/>
            <p:nvPr/>
          </p:nvSpPr>
          <p:spPr>
            <a:xfrm>
              <a:off x="387360" y="9122400"/>
              <a:ext cx="22716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87360" y="9462240"/>
              <a:ext cx="23796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87360" y="9292320"/>
              <a:ext cx="23796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747720" y="9292320"/>
              <a:ext cx="23796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47720" y="9123480"/>
              <a:ext cx="249120" cy="30492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63400" y="9462240"/>
              <a:ext cx="24948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9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63400" y="9292320"/>
              <a:ext cx="24948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63400" y="9122400"/>
              <a:ext cx="24948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7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7" name=""/>
          <p:cNvSpPr/>
          <p:nvPr/>
        </p:nvSpPr>
        <p:spPr>
          <a:xfrm>
            <a:off x="684360" y="8124840"/>
            <a:ext cx="122364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955800" y="815328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alle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700200" y="80935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1946160" y="8051760"/>
            <a:ext cx="1968480" cy="43200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969920" y="7980480"/>
            <a:ext cx="13431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ing Index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1969920" y="8136000"/>
            <a:ext cx="1522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RTC Winners 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1969920" y="8267760"/>
            <a:ext cx="1486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ll of Fame 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676440" y="1017720"/>
            <a:ext cx="122364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1930320" y="868320"/>
            <a:ext cx="1968480" cy="61596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1954080" y="809640"/>
            <a:ext cx="2016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rinciples of Raytracing (Wikipedia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1954080" y="1052640"/>
            <a:ext cx="1847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History of POV-Ray/DKBTrace (Documentation 1.1.5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1954080" y="9172440"/>
            <a:ext cx="1968480" cy="58284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1978200" y="9161640"/>
            <a:ext cx="2016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 set of predefined Google searches for 3DS Models,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AX, WRL, DXF, COB, OBJ, IOB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978200" y="9396360"/>
            <a:ext cx="1522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nks to Model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Lin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1978200" y="9555120"/>
            <a:ext cx="1944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 or 5 Very Large Model Archiv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826920" y="1052640"/>
            <a:ext cx="1522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ground Read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467160" y="9504360"/>
            <a:ext cx="576360" cy="417600"/>
          </a:xfrm>
          <a:custGeom>
            <a:avLst/>
            <a:gdLst/>
            <a:ahLst/>
            <a:rect l="l" t="t" r="r" b="b"/>
            <a:pathLst>
              <a:path w="363" h="451">
                <a:moveTo>
                  <a:pt x="0" y="26"/>
                </a:moveTo>
                <a:cubicBezTo>
                  <a:pt x="51" y="31"/>
                  <a:pt x="250" y="0"/>
                  <a:pt x="306" y="53"/>
                </a:cubicBezTo>
                <a:cubicBezTo>
                  <a:pt x="363" y="106"/>
                  <a:pt x="347" y="279"/>
                  <a:pt x="341" y="343"/>
                </a:cubicBezTo>
                <a:cubicBezTo>
                  <a:pt x="336" y="406"/>
                  <a:pt x="284" y="423"/>
                  <a:pt x="271" y="437"/>
                </a:cubicBezTo>
                <a:cubicBezTo>
                  <a:pt x="258" y="451"/>
                  <a:pt x="265" y="429"/>
                  <a:pt x="263" y="427"/>
                </a:cubicBezTo>
              </a:path>
            </a:pathLst>
          </a:custGeom>
          <a:noFill/>
          <a:ln w="12600">
            <a:solidFill>
              <a:srgbClr val="92cdd2"/>
            </a:solidFill>
            <a:prstDash val="dash"/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1962000" y="1239840"/>
            <a:ext cx="1192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nline Magazin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555480" y="86724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708120" y="118008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627120" y="101124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1932120" y="1515960"/>
            <a:ext cx="1968480" cy="50508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1955880" y="1611360"/>
            <a:ext cx="19177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Group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ller Groups (Moray etc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n-POV-Ray Specific (but related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1954080" y="2028960"/>
            <a:ext cx="18972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Related 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684360" y="8694720"/>
            <a:ext cx="122364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1947960" y="8521560"/>
            <a:ext cx="1968480" cy="62388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1971720" y="8537400"/>
            <a:ext cx="2016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 set of predefined Google searches for downloadable Image File Typ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1971720" y="8767800"/>
            <a:ext cx="1903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nks to Image/Texture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in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1971720" y="8913960"/>
            <a:ext cx="1469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 or 6 Very Large Archiv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8578800"/>
            <a:ext cx="2271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606600" y="872964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662040" y="885348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955800" y="8692920"/>
            <a:ext cx="102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mage/Texture  Sear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786120" y="8842320"/>
            <a:ext cx="417600" cy="1085760"/>
          </a:xfrm>
          <a:custGeom>
            <a:avLst/>
            <a:gdLst/>
            <a:ahLst/>
            <a:rect l="l" t="t" r="r" b="b"/>
            <a:pathLst>
              <a:path w="263" h="952">
                <a:moveTo>
                  <a:pt x="0" y="55"/>
                </a:moveTo>
                <a:cubicBezTo>
                  <a:pt x="38" y="64"/>
                  <a:pt x="179" y="0"/>
                  <a:pt x="221" y="110"/>
                </a:cubicBezTo>
                <a:cubicBezTo>
                  <a:pt x="263" y="220"/>
                  <a:pt x="255" y="584"/>
                  <a:pt x="250" y="718"/>
                </a:cubicBezTo>
                <a:cubicBezTo>
                  <a:pt x="245" y="852"/>
                  <a:pt x="223" y="882"/>
                  <a:pt x="192" y="917"/>
                </a:cubicBezTo>
                <a:cubicBezTo>
                  <a:pt x="160" y="952"/>
                  <a:pt x="91" y="928"/>
                  <a:pt x="65" y="930"/>
                </a:cubicBezTo>
              </a:path>
            </a:pathLst>
          </a:custGeom>
          <a:noFill/>
          <a:ln w="12600">
            <a:solidFill>
              <a:srgbClr val="92cdd2"/>
            </a:solidFill>
            <a:prstDash val="dash"/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68160" y="660240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939960" y="6581520"/>
            <a:ext cx="96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684360" y="656316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50920" y="8294760"/>
            <a:ext cx="469800" cy="2435040"/>
          </a:xfrm>
          <a:custGeom>
            <a:avLst/>
            <a:gdLst/>
            <a:ahLst/>
            <a:rect l="l" t="t" r="r" b="b"/>
            <a:pathLst>
              <a:path w="223" h="1522">
                <a:moveTo>
                  <a:pt x="223" y="0"/>
                </a:moveTo>
                <a:cubicBezTo>
                  <a:pt x="191" y="38"/>
                  <a:pt x="64" y="19"/>
                  <a:pt x="32" y="231"/>
                </a:cubicBezTo>
                <a:cubicBezTo>
                  <a:pt x="0" y="443"/>
                  <a:pt x="5" y="1060"/>
                  <a:pt x="32" y="1275"/>
                </a:cubicBezTo>
                <a:cubicBezTo>
                  <a:pt x="59" y="1490"/>
                  <a:pt x="162" y="1471"/>
                  <a:pt x="196" y="1522"/>
                </a:cubicBezTo>
              </a:path>
            </a:pathLst>
          </a:custGeom>
          <a:noFill/>
          <a:ln w="19080">
            <a:solidFill>
              <a:srgbClr val="f9ee19"/>
            </a:solidFill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322200" y="3313080"/>
            <a:ext cx="354240" cy="3382920"/>
          </a:xfrm>
          <a:custGeom>
            <a:avLst/>
            <a:gdLst/>
            <a:ahLst/>
            <a:rect l="l" t="t" r="r" b="b"/>
            <a:pathLst>
              <a:path w="223" h="1522">
                <a:moveTo>
                  <a:pt x="223" y="0"/>
                </a:moveTo>
                <a:cubicBezTo>
                  <a:pt x="191" y="38"/>
                  <a:pt x="64" y="19"/>
                  <a:pt x="32" y="231"/>
                </a:cubicBezTo>
                <a:cubicBezTo>
                  <a:pt x="0" y="443"/>
                  <a:pt x="5" y="1060"/>
                  <a:pt x="32" y="1275"/>
                </a:cubicBezTo>
                <a:cubicBezTo>
                  <a:pt x="59" y="1490"/>
                  <a:pt x="162" y="1471"/>
                  <a:pt x="196" y="1522"/>
                </a:cubicBezTo>
              </a:path>
            </a:pathLst>
          </a:custGeom>
          <a:noFill/>
          <a:ln w="19080">
            <a:solidFill>
              <a:srgbClr val="f9ee19"/>
            </a:solidFill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540160" y="3303000"/>
            <a:ext cx="1249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imat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2176560" y="322308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4549680" y="3792600"/>
            <a:ext cx="1435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1954080" y="10601280"/>
            <a:ext cx="1968480" cy="344520"/>
          </a:xfrm>
          <a:prstGeom prst="rect">
            <a:avLst/>
          </a:prstGeom>
          <a:solidFill>
            <a:srgbClr val="d7ff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1978200" y="10693440"/>
            <a:ext cx="1522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Team Members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nks of Assistance to Te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690480" y="1018692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906480" y="10217160"/>
            <a:ext cx="1082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aborativ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rojec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717480" y="101631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2120760" y="11304720"/>
            <a:ext cx="1967040" cy="2592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2143080" y="11449080"/>
            <a:ext cx="2006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To Be Removed or merged into Category  9/10 – ‘Links Sites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916280" y="144360"/>
            <a:ext cx="2520720" cy="5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4076640" y="647640"/>
            <a:ext cx="504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4438800" y="647640"/>
            <a:ext cx="14256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4438800" y="979560"/>
            <a:ext cx="14256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4403880" y="1617840"/>
            <a:ext cx="25056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653000" y="692280"/>
            <a:ext cx="1512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mall number of Static link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653000" y="1014480"/>
            <a:ext cx="1441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re Dynamic Catego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4653000" y="1325520"/>
            <a:ext cx="1441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ies to be delet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4653000" y="1608120"/>
            <a:ext cx="1297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ross Reference to current Catego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4438800" y="1311120"/>
            <a:ext cx="142560" cy="287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4384800" y="3828960"/>
            <a:ext cx="141120" cy="150840"/>
          </a:xfrm>
          <a:prstGeom prst="ellipse">
            <a:avLst/>
          </a:prstGeom>
          <a:noFill/>
          <a:ln w="57240">
            <a:solidFill>
              <a:srgbClr val="f9e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2008080" y="2955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3892680" y="7105680"/>
            <a:ext cx="1427040" cy="2955960"/>
          </a:xfrm>
          <a:custGeom>
            <a:avLst/>
            <a:gdLst/>
            <a:ahLst/>
            <a:rect l="l" t="t" r="r" b="b"/>
            <a:pathLst>
              <a:path w="899" h="1862">
                <a:moveTo>
                  <a:pt x="866" y="0"/>
                </a:moveTo>
                <a:cubicBezTo>
                  <a:pt x="861" y="29"/>
                  <a:pt x="899" y="97"/>
                  <a:pt x="836" y="174"/>
                </a:cubicBezTo>
                <a:cubicBezTo>
                  <a:pt x="773" y="251"/>
                  <a:pt x="567" y="217"/>
                  <a:pt x="488" y="462"/>
                </a:cubicBezTo>
                <a:cubicBezTo>
                  <a:pt x="409" y="707"/>
                  <a:pt x="443" y="1426"/>
                  <a:pt x="362" y="1644"/>
                </a:cubicBezTo>
                <a:cubicBezTo>
                  <a:pt x="281" y="1862"/>
                  <a:pt x="75" y="1742"/>
                  <a:pt x="0" y="1768"/>
                </a:cubicBezTo>
              </a:path>
            </a:pathLst>
          </a:custGeom>
          <a:noFill/>
          <a:ln w="12600">
            <a:solidFill>
              <a:srgbClr val="92cdd2"/>
            </a:solidFill>
            <a:prstDash val="dash"/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4556160" y="400860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4389480" y="4044960"/>
            <a:ext cx="141120" cy="150840"/>
          </a:xfrm>
          <a:prstGeom prst="ellipse">
            <a:avLst/>
          </a:prstGeom>
          <a:noFill/>
          <a:ln w="57240">
            <a:solidFill>
              <a:srgbClr val="f9e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2781360" y="504720"/>
            <a:ext cx="10699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342720" y="1079280"/>
            <a:ext cx="6172200" cy="1178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inks within the categories shown in blue would be heavily trimmed. We would be highly selective, only targetting other major sites. E.g.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oog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ikipedi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 small number of major, well established reposito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ose shown in green would be more dynamic, with contributions being accepted from the POV-Ray community (still filtered through an administrator). Anyone with appropriate materials could get their links added to these categori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3T18:03:50Z</dcterms:created>
  <dc:creator>Chris Bartlett</dc:creator>
  <dc:description/>
  <dc:language>en-US</dc:language>
  <cp:lastModifiedBy>Chris Bartlett</cp:lastModifiedBy>
  <dcterms:modified xsi:type="dcterms:W3CDTF">2006-05-09T11:46:28Z</dcterms:modified>
  <cp:revision>150</cp:revision>
  <dc:subject/>
  <dc:title>Slide 1</dc:title>
</cp:coreProperties>
</file>