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14403388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7C54-EFC0-48BB-AB7A-D28BE704B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1265-929C-421F-BB79-D4CC14CF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4086-5E4B-4BA6-81F8-B7976C104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336024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8323920"/>
            <a:ext cx="1987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DE3F-BF11-42F7-8216-B5BDAA78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42C8-E8C4-41BE-97AE-28FE826B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CD85-45B4-4668-BF3D-DB9ECEAA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755-0A4F-480A-B70B-E5AF51E8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4045-B16F-4612-AB7A-008A432B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577800"/>
            <a:ext cx="6172200" cy="1112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11BD-AB7C-4124-9C29-962AFB679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913-9D39-4544-9F9C-BB18E49B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832392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6B63-BB34-4D2E-B3E1-5E951767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3360240"/>
            <a:ext cx="301176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8323920"/>
            <a:ext cx="6172200" cy="453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6ABF-D58C-4D72-9843-F5C00C61B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577800"/>
            <a:ext cx="6172200" cy="240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3360240"/>
            <a:ext cx="6172200" cy="9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13114440"/>
            <a:ext cx="217152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13114440"/>
            <a:ext cx="160020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129DE-DD36-4B36-98C8-8003DB940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65360" y="5172120"/>
            <a:ext cx="79236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537000" y="86756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25800" y="5051520"/>
            <a:ext cx="1797120" cy="2952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5800" y="8443800"/>
            <a:ext cx="1797120" cy="579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403280" y="6663960"/>
            <a:ext cx="749520" cy="324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09720" y="4179960"/>
            <a:ext cx="1968480" cy="49276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9720" y="85248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94080" y="733284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09720" y="71802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06480" y="5027760"/>
            <a:ext cx="1968480" cy="2808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5800" y="6643800"/>
            <a:ext cx="1797120" cy="13762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98920" y="3701880"/>
            <a:ext cx="14414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222800" y="5070600"/>
            <a:ext cx="682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32280" y="507060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32280" y="3166920"/>
            <a:ext cx="1079280" cy="1062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36338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332000" y="2914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32000" y="244944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32000" y="19605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332000" y="12207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11160" y="3257640"/>
            <a:ext cx="1968840" cy="8316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11160" y="351792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03280" y="1188396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36760" y="11248920"/>
            <a:ext cx="86364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05080" y="10083960"/>
            <a:ext cx="863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11160" y="1643040"/>
            <a:ext cx="1968840" cy="5698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811160" y="2297160"/>
            <a:ext cx="196884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811160" y="2658960"/>
            <a:ext cx="1968840" cy="5144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811160" y="9202680"/>
            <a:ext cx="1968840" cy="17733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11160" y="11057040"/>
            <a:ext cx="1968840" cy="3236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811160" y="11472840"/>
            <a:ext cx="1968840" cy="9399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11160" y="955800"/>
            <a:ext cx="1968840" cy="546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07800" y="1430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7800" y="18064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07800" y="229068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27590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7800" y="34783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7800" y="65152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07800" y="992520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7800" y="11082240"/>
            <a:ext cx="1224000" cy="3114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7800" y="11667960"/>
            <a:ext cx="122400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7800" y="122191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7800" y="10540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9600" y="1047240"/>
            <a:ext cx="74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1035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-3636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60920" y="11080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041560" y="1197000"/>
            <a:ext cx="1427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35280" y="117216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07000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867280" y="1181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041560" y="988920"/>
            <a:ext cx="1859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tilities and 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35280" y="93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77920" y="1281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792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75200" y="10368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" y="1439640"/>
            <a:ext cx="9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Discussion Foru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25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-38160" y="17431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-3816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59120" y="14986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9600" y="1790280"/>
            <a:ext cx="103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Image and 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1784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-38160" y="18572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-38160" y="21016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-3816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59120" y="1857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41560" y="190656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18738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41560" y="1654200"/>
            <a:ext cx="1378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35280" y="16214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7000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17715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79600" y="234396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Link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22748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17640" y="23479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1764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78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41560" y="2314440"/>
            <a:ext cx="923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d Lin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35280" y="22802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07000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67280" y="234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9600" y="27572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agazines, Lists, and 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2742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60" y="266544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60" y="290988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6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7000" y="2665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41560" y="28940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863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041560" y="2654280"/>
            <a:ext cx="779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AQ'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835280" y="261936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75080" y="29811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7508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72360" y="24922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79600" y="3536280"/>
            <a:ext cx="896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Model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34560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360" y="316872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" y="3413160"/>
            <a:ext cx="37976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36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07000" y="3168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41560" y="354492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835280" y="349452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041560" y="3270240"/>
            <a:ext cx="1139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S Mode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835280" y="323100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5736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254640" y="30243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86080" y="3932280"/>
            <a:ext cx="8985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xed Forma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43280" y="2852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041560" y="38178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rge / Mixed Colle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35280" y="375804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476440" y="391788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7644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273720" y="36734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9600" y="6538320"/>
            <a:ext cx="68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24000" y="64760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800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05280" y="40622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130480" y="504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838160" y="4998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130480" y="47736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838160" y="47307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130480" y="4503600"/>
            <a:ext cx="1550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ercial 3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38160" y="44629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30480" y="4235400"/>
            <a:ext cx="14796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mical/Molecular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38160" y="41958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673360" y="3860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73360" y="48387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67336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0640" y="3860640"/>
            <a:ext cx="0" cy="9781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83080" y="46101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0480" y="7197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838160" y="71452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130480" y="69292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838160" y="68770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130480" y="66596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38160" y="6609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0480" y="63896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838160" y="6341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130480" y="611964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838160" y="60721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130480" y="58514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8160" y="580392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30480" y="558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8160" y="5536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30480" y="53118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38160" y="52678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09720" y="484200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709720" y="6797520"/>
            <a:ext cx="3878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0972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88000" y="4842000"/>
            <a:ext cx="0" cy="1955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87880" y="77342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70440" y="77342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87880" y="74707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70440" y="74707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187880" y="72090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70440" y="72090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187880" y="6945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70440" y="69454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187880" y="66834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70440" y="66834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535800" y="62229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30480" y="854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oftWare Graphics - Misc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838160" y="84873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30480" y="827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38160" y="82184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130480" y="8005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838160" y="79502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130480" y="77374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aytracing and Render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838160" y="76824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130480" y="7467480"/>
            <a:ext cx="157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s Under 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8160" y="74142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1944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516720" y="679932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99040" y="8744040"/>
            <a:ext cx="1282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hotoShop and PSP Filter Plugi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81600" y="8731080"/>
            <a:ext cx="228600" cy="2448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199040" y="8470800"/>
            <a:ext cx="99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TP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81600" y="84708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35800" y="76770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30480" y="88153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838160" y="875556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19440" y="802152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19440" y="82659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71944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516720" y="80215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79600" y="9928080"/>
            <a:ext cx="9680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4000" y="9896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41560" y="1070460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39960" y="106473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041560" y="10488600"/>
            <a:ext cx="1860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839960" y="1040292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041560" y="10228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9960" y="10158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041560" y="10032840"/>
            <a:ext cx="1355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839960" y="9914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041560" y="978840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39960" y="96699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41560" y="9435960"/>
            <a:ext cx="171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839960" y="9425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41560" y="9220320"/>
            <a:ext cx="135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839960" y="9181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79600" y="1112040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110574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41560" y="11101320"/>
            <a:ext cx="1112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841400" y="110415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79600" y="117712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1724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041560" y="1217628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 and Scen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839960" y="120686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41560" y="11795040"/>
            <a:ext cx="102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cro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839960" y="117666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41560" y="11509200"/>
            <a:ext cx="102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clude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839960" y="114638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79600" y="122475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eople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121878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981600" y="389304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186080" y="368784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81600" y="364860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186080" y="3443400"/>
            <a:ext cx="401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X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81600" y="340416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86080" y="3198960"/>
            <a:ext cx="546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81600" y="3159720"/>
            <a:ext cx="24912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44280" y="288720"/>
            <a:ext cx="230508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t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476360" y="727704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170080" y="6692760"/>
            <a:ext cx="1968480" cy="111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74880" y="384336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173320" y="2978280"/>
            <a:ext cx="1968480" cy="35287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89160" y="299412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3720" y="97236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70080" y="7155000"/>
            <a:ext cx="1968480" cy="285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54440" y="343368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170080" y="328140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86160" y="2978280"/>
            <a:ext cx="1797120" cy="191916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176560" y="5924520"/>
            <a:ext cx="24768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68160" y="210492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95160" y="932184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68160" y="3643200"/>
            <a:ext cx="1224000" cy="41112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68160" y="2540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6440" y="801360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95160" y="105616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40160" y="74559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205000" y="74469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39960" y="207000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360" y="2116080"/>
            <a:ext cx="2268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192560" y="12240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95280" y="158256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95280" y="158256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3440" y="149688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65160" y="977688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4880" y="9711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1580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3440" y="20732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2800" y="2390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008160" y="2217600"/>
            <a:ext cx="0" cy="489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66960" y="931968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2800" y="28940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39960" y="362268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4360" y="368028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1440" y="3787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490840" y="59482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494080" y="43704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176560" y="4286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816520" y="4335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90840" y="3298680"/>
            <a:ext cx="17222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76560" y="321948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490840" y="3022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76560" y="295488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490840" y="357984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76560" y="3486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490840" y="680400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98520" y="674424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486160" y="617868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176560" y="613152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90840" y="48830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76560" y="48186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490840" y="4641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176560" y="455292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94080" y="411012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548240" y="40687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330800" y="406872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48240" y="380520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330800" y="380520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548240" y="35434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30800" y="35434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48240" y="3279600"/>
            <a:ext cx="14349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330800" y="3279600"/>
            <a:ext cx="228600" cy="244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48240" y="301788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330800" y="3017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490840" y="717552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198520" y="711720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490840" y="541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76560" y="5351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490840" y="51498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176560" y="5085360"/>
            <a:ext cx="2286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52880" y="6524640"/>
            <a:ext cx="0" cy="1222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490840" y="569268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176560" y="561816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52880" y="7746840"/>
            <a:ext cx="0" cy="244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57796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74640" y="25113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947880" y="811692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4880" y="805176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966960" y="1059012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04880" y="10530360"/>
            <a:ext cx="22716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852156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955800" y="855036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04880" y="848988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76440" y="154764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26920" y="1582560"/>
            <a:ext cx="1522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1522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8920080"/>
            <a:ext cx="122364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8400" y="8907480"/>
            <a:ext cx="23832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955800" y="891828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8160" y="71326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39960" y="711180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704880" y="7121520"/>
            <a:ext cx="2271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540160" y="383328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176560" y="375336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49680" y="432288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0480" y="1013616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6480" y="1016640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4880" y="10112400"/>
            <a:ext cx="22860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osed Hierarc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43400" y="43228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71880" y="3997800"/>
            <a:ext cx="226800" cy="3042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0200" y="9307440"/>
            <a:ext cx="237960" cy="30492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13000" y="725400"/>
            <a:ext cx="505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575160" y="725400"/>
            <a:ext cx="14292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75160" y="1057320"/>
            <a:ext cx="14292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789360" y="770040"/>
            <a:ext cx="1728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w Maintenance Categori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789360" y="109224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556160" y="457992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346640" y="4576680"/>
            <a:ext cx="228600" cy="24444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095720" y="48880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87880" y="4680000"/>
            <a:ext cx="1968480" cy="86508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262400" y="4681440"/>
            <a:ext cx="1897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stricted to  content related to POV-Ray. For example, Designed specifically for POV-Ray or outputs in a  POV-Ray specific forma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05360" y="64832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029120" y="67327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981600" y="6986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76360" y="6746760"/>
            <a:ext cx="1592280" cy="2700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170080" y="6162840"/>
            <a:ext cx="1968480" cy="11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78160" y="6408720"/>
            <a:ext cx="1698840" cy="72072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4246560" y="662472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 or 3 Link to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 ea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835280" y="1028556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54080" y="1016316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978200" y="101869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elated Development Initiat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87400" y="2131920"/>
            <a:ext cx="19080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835280" y="10723680"/>
            <a:ext cx="190440" cy="69840"/>
          </a:xfrm>
          <a:prstGeom prst="rect">
            <a:avLst/>
          </a:prstGeom>
          <a:solidFill>
            <a:srgbClr val="95ff9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85960" y="1138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85960" y="172728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808280" y="824544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785960" y="880596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785960" y="94345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785960" y="9877320"/>
            <a:ext cx="264960" cy="69840"/>
          </a:xfrm>
          <a:prstGeom prst="rect">
            <a:avLst/>
          </a:prstGeom>
          <a:solidFill>
            <a:srgbClr val="a7d5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74880" y="3313080"/>
            <a:ext cx="137628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73320" y="2448000"/>
            <a:ext cx="1968480" cy="3529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189160" y="2463840"/>
            <a:ext cx="1936800" cy="287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79440" y="751680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93720" y="9764640"/>
            <a:ext cx="1224000" cy="311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170080" y="6624720"/>
            <a:ext cx="1968480" cy="28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754440" y="2903400"/>
            <a:ext cx="792000" cy="0"/>
          </a:xfrm>
          <a:prstGeom prst="line">
            <a:avLst/>
          </a:prstGeom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170080" y="2751120"/>
            <a:ext cx="1968480" cy="2858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286160" y="2448000"/>
            <a:ext cx="1797120" cy="18730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2176560" y="5394240"/>
            <a:ext cx="24768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952640" y="9779040"/>
            <a:ext cx="1968480" cy="285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32120" y="2055960"/>
            <a:ext cx="1968480" cy="22860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68160" y="1574640"/>
            <a:ext cx="122400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95160" y="932508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68160" y="3112920"/>
            <a:ext cx="1224000" cy="41148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8160" y="200988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76440" y="7483320"/>
            <a:ext cx="1223640" cy="43200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5160" y="1061244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40160" y="692604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imation Utilities &amp; Compression Codec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205000" y="685008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197080" y="705168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939960" y="1539720"/>
            <a:ext cx="96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sgroups, Discussion Forums &amp; FAQ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4360" y="1586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192560" y="6937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5280" y="1052640"/>
            <a:ext cx="379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5280" y="1052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3440" y="96696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65160" y="9817920"/>
            <a:ext cx="96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lated Links Si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92280" y="9676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1580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78200" y="979632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Link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63560" y="9818640"/>
            <a:ext cx="23832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503440" y="15429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2800" y="186048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008160" y="1687680"/>
            <a:ext cx="0" cy="488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966960" y="932292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Object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42800" y="236376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39960" y="3092400"/>
            <a:ext cx="103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Specific Programs, Utilities and Pat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84360" y="314964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41440" y="325764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90840" y="541800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nts and Font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08080" y="5335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494080" y="38401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vers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176560" y="3756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00808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08080" y="62917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816520" y="380520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490840" y="27687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Unofficial  Patches and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176560" y="268920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490840" y="249228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Official Versions &amp;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176560" y="242460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490840" y="3049560"/>
            <a:ext cx="1722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Modell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17656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90840" y="6273720"/>
            <a:ext cx="1585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ling, Rendering and Other Raytracing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198520" y="6114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486160" y="564840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sc. POV-Ray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176560" y="56012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490840" y="4352760"/>
            <a:ext cx="1342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esh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176560" y="428832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490840" y="411156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Syste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176560" y="402264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494080" y="3579840"/>
            <a:ext cx="13428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eight Field Modelling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176560" y="3489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548240" y="353844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330800" y="35384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548240" y="3274920"/>
            <a:ext cx="1326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30800" y="327492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48240" y="30132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330800" y="30132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48240" y="274968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2.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330800" y="27496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548240" y="2487600"/>
            <a:ext cx="16174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Front End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330800" y="248760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490840" y="6645240"/>
            <a:ext cx="1514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aphics SoftW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8520" y="65865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90840" y="488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lines and Pip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176560" y="48218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490840" y="4619520"/>
            <a:ext cx="13096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hells, Spirals, and Helix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76560" y="455508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198520" y="6287040"/>
            <a:ext cx="2286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152880" y="5994360"/>
            <a:ext cx="0" cy="1222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27160" y="674064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027160" y="6553080"/>
            <a:ext cx="22860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490840" y="5162400"/>
            <a:ext cx="1309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xture Editors and Too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176560" y="508788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52880" y="7216920"/>
            <a:ext cx="0" cy="244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425680" y="1180800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170080" y="1177668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505240" y="13598640"/>
            <a:ext cx="159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University Graphics Program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303640" y="13541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3440" y="13382640"/>
            <a:ext cx="16718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D solid construction metho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303640" y="1329696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2505240" y="13122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rogramming 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303640" y="130528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05240" y="1292688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sc Resour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303640" y="1280844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505240" y="12682440"/>
            <a:ext cx="1643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th and Geometry Resources and Inform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303640" y="1256400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5240" y="12330000"/>
            <a:ext cx="1715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uman - Animal Motion Stud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03640" y="123195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5240" y="12114360"/>
            <a:ext cx="1355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03640" y="12075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939960" y="204804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84360" y="1895400"/>
            <a:ext cx="2268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207324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47880" y="758664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Include, Macro, and Object Fi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1720" y="743796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9840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690480" y="7435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31720" y="76046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966960" y="10640880"/>
            <a:ext cx="9680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11360" y="105811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87360" y="9122400"/>
            <a:ext cx="609480" cy="644040"/>
            <a:chOff x="387360" y="9122400"/>
            <a:chExt cx="609480" cy="644040"/>
          </a:xfrm>
        </p:grpSpPr>
        <p:sp>
          <p:nvSpPr>
            <p:cNvPr id="509" name=""/>
            <p:cNvSpPr/>
            <p:nvPr/>
          </p:nvSpPr>
          <p:spPr>
            <a:xfrm>
              <a:off x="387360" y="9122400"/>
              <a:ext cx="2271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7360" y="946224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736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47720" y="9292320"/>
              <a:ext cx="23796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47720" y="9123480"/>
              <a:ext cx="249120" cy="30492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3400" y="946224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63400" y="929232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3400" y="9122400"/>
              <a:ext cx="249480" cy="30420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b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7" name=""/>
          <p:cNvSpPr/>
          <p:nvPr/>
        </p:nvSpPr>
        <p:spPr>
          <a:xfrm>
            <a:off x="684360" y="812484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55800" y="8153280"/>
            <a:ext cx="968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alle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00200" y="809352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46160" y="8051760"/>
            <a:ext cx="1968480" cy="43200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969920" y="7980480"/>
            <a:ext cx="1343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ing Index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969920" y="813600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RTC Winners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69920" y="8267760"/>
            <a:ext cx="1486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Hall of Fame Lin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6440" y="1017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930320" y="868320"/>
            <a:ext cx="1968480" cy="61596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954080" y="809640"/>
            <a:ext cx="2016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inciples of Raytracing (Wikipedi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1954080" y="1052640"/>
            <a:ext cx="1847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istory of POV-Ray/DKBTrace (Documentation 1.1.5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954080" y="9172440"/>
            <a:ext cx="1968480" cy="58284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978200" y="9161640"/>
            <a:ext cx="2016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3DS Models,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MAX, WRL, DXF, COB, OBJ, IOB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978200" y="939636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Model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 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978200" y="9555120"/>
            <a:ext cx="1944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 or 5 Very Large Model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826920" y="1052640"/>
            <a:ext cx="1522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ackground Rea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467160" y="9504360"/>
            <a:ext cx="576360" cy="417600"/>
          </a:xfrm>
          <a:custGeom>
            <a:avLst/>
            <a:gdLst/>
            <a:ahLst/>
            <a:rect l="l" t="t" r="r" b="b"/>
            <a:pathLst>
              <a:path w="363" h="451">
                <a:moveTo>
                  <a:pt x="0" y="26"/>
                </a:moveTo>
                <a:cubicBezTo>
                  <a:pt x="51" y="31"/>
                  <a:pt x="250" y="0"/>
                  <a:pt x="306" y="53"/>
                </a:cubicBezTo>
                <a:cubicBezTo>
                  <a:pt x="363" y="106"/>
                  <a:pt x="347" y="279"/>
                  <a:pt x="341" y="343"/>
                </a:cubicBezTo>
                <a:cubicBezTo>
                  <a:pt x="336" y="406"/>
                  <a:pt x="284" y="423"/>
                  <a:pt x="271" y="437"/>
                </a:cubicBezTo>
                <a:cubicBezTo>
                  <a:pt x="258" y="451"/>
                  <a:pt x="265" y="429"/>
                  <a:pt x="263" y="427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962000" y="1239840"/>
            <a:ext cx="1192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nline Magazin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55480" y="867240"/>
            <a:ext cx="2271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08120" y="1180080"/>
            <a:ext cx="23796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27120" y="10112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932120" y="1515960"/>
            <a:ext cx="1968480" cy="5050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955880" y="1611360"/>
            <a:ext cx="19177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Grou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eller Groups (Moray etc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n-POV-Ray Specific (but related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954080" y="2028960"/>
            <a:ext cx="18972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Related Tutoria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684360" y="8694720"/>
            <a:ext cx="122364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47960" y="8521560"/>
            <a:ext cx="1968480" cy="623880"/>
          </a:xfrm>
          <a:prstGeom prst="rect">
            <a:avLst/>
          </a:prstGeom>
          <a:solidFill>
            <a:srgbClr val="e3f2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71720" y="8537400"/>
            <a:ext cx="20160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 set of predefined Google searches for downloadable Image File Typ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971720" y="8767800"/>
            <a:ext cx="1903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to Image/Texture  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n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971720" y="8913960"/>
            <a:ext cx="14698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 or 6 Very Large Archiv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8578800"/>
            <a:ext cx="2271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606600" y="872964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662040" y="8853480"/>
            <a:ext cx="23796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955800" y="8692920"/>
            <a:ext cx="102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mage/Texture  Sear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786120" y="8842320"/>
            <a:ext cx="417600" cy="1085760"/>
          </a:xfrm>
          <a:custGeom>
            <a:avLst/>
            <a:gdLst/>
            <a:ahLst/>
            <a:rect l="l" t="t" r="r" b="b"/>
            <a:pathLst>
              <a:path w="263" h="952">
                <a:moveTo>
                  <a:pt x="0" y="55"/>
                </a:moveTo>
                <a:cubicBezTo>
                  <a:pt x="38" y="64"/>
                  <a:pt x="179" y="0"/>
                  <a:pt x="221" y="110"/>
                </a:cubicBezTo>
                <a:cubicBezTo>
                  <a:pt x="263" y="220"/>
                  <a:pt x="255" y="584"/>
                  <a:pt x="250" y="718"/>
                </a:cubicBezTo>
                <a:cubicBezTo>
                  <a:pt x="245" y="852"/>
                  <a:pt x="223" y="882"/>
                  <a:pt x="192" y="917"/>
                </a:cubicBezTo>
                <a:cubicBezTo>
                  <a:pt x="160" y="952"/>
                  <a:pt x="91" y="928"/>
                  <a:pt x="65" y="930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668160" y="6602400"/>
            <a:ext cx="122400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939960" y="6581520"/>
            <a:ext cx="96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Programs and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84360" y="656316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50920" y="8294760"/>
            <a:ext cx="469800" cy="243504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22200" y="3313080"/>
            <a:ext cx="354240" cy="3382920"/>
          </a:xfrm>
          <a:custGeom>
            <a:avLst/>
            <a:gdLst/>
            <a:ahLst/>
            <a:rect l="l" t="t" r="r" b="b"/>
            <a:pathLst>
              <a:path w="223" h="1522">
                <a:moveTo>
                  <a:pt x="223" y="0"/>
                </a:moveTo>
                <a:cubicBezTo>
                  <a:pt x="191" y="38"/>
                  <a:pt x="64" y="19"/>
                  <a:pt x="32" y="231"/>
                </a:cubicBezTo>
                <a:cubicBezTo>
                  <a:pt x="0" y="443"/>
                  <a:pt x="5" y="1060"/>
                  <a:pt x="32" y="1275"/>
                </a:cubicBezTo>
                <a:cubicBezTo>
                  <a:pt x="59" y="1490"/>
                  <a:pt x="162" y="1471"/>
                  <a:pt x="196" y="1522"/>
                </a:cubicBezTo>
              </a:path>
            </a:pathLst>
          </a:custGeom>
          <a:noFill/>
          <a:ln w="19080">
            <a:solidFill>
              <a:srgbClr val="f9ee19"/>
            </a:solidFill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540160" y="3303000"/>
            <a:ext cx="1249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nimation Utilit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176560" y="3223080"/>
            <a:ext cx="226800" cy="30420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549680" y="3792600"/>
            <a:ext cx="1435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954080" y="10601280"/>
            <a:ext cx="1968480" cy="344520"/>
          </a:xfrm>
          <a:prstGeom prst="rect">
            <a:avLst/>
          </a:prstGeom>
          <a:solidFill>
            <a:srgbClr val="d7ff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978200" y="10693440"/>
            <a:ext cx="1522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Team Members Pag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inks of Assistance to Te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90480" y="10186920"/>
            <a:ext cx="122400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906480" y="10217160"/>
            <a:ext cx="1082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llaborativ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rojec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17480" y="101631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120760" y="11304720"/>
            <a:ext cx="1967040" cy="2592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143080" y="11449080"/>
            <a:ext cx="2006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</a:rPr>
              <a:t>To Be Removed or merged into Category  9/10 – ‘Links Sites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16280" y="144360"/>
            <a:ext cx="252072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076640" y="647640"/>
            <a:ext cx="504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438800" y="647640"/>
            <a:ext cx="142560" cy="311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438800" y="979560"/>
            <a:ext cx="142560" cy="311040"/>
          </a:xfrm>
          <a:prstGeom prst="rect">
            <a:avLst/>
          </a:prstGeom>
          <a:solidFill>
            <a:srgbClr val="95ff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403880" y="1617840"/>
            <a:ext cx="250560" cy="24444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653000" y="692280"/>
            <a:ext cx="1512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mall number of Static lin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53000" y="101448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re Dynamic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653000" y="1325520"/>
            <a:ext cx="144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ategories to be dele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653000" y="1608120"/>
            <a:ext cx="12970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ross Reference to current Categori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38800" y="1311120"/>
            <a:ext cx="142560" cy="287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384800" y="3828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008080" y="2955960"/>
            <a:ext cx="228600" cy="304920"/>
          </a:xfrm>
          <a:prstGeom prst="ellipse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892680" y="7105680"/>
            <a:ext cx="1427040" cy="2955960"/>
          </a:xfrm>
          <a:custGeom>
            <a:avLst/>
            <a:gdLst/>
            <a:ahLst/>
            <a:rect l="l" t="t" r="r" b="b"/>
            <a:pathLst>
              <a:path w="899" h="1862">
                <a:moveTo>
                  <a:pt x="866" y="0"/>
                </a:moveTo>
                <a:cubicBezTo>
                  <a:pt x="861" y="29"/>
                  <a:pt x="899" y="97"/>
                  <a:pt x="836" y="174"/>
                </a:cubicBezTo>
                <a:cubicBezTo>
                  <a:pt x="773" y="251"/>
                  <a:pt x="567" y="217"/>
                  <a:pt x="488" y="462"/>
                </a:cubicBezTo>
                <a:cubicBezTo>
                  <a:pt x="409" y="707"/>
                  <a:pt x="443" y="1426"/>
                  <a:pt x="362" y="1644"/>
                </a:cubicBezTo>
                <a:cubicBezTo>
                  <a:pt x="281" y="1862"/>
                  <a:pt x="75" y="1742"/>
                  <a:pt x="0" y="1768"/>
                </a:cubicBezTo>
              </a:path>
            </a:pathLst>
          </a:custGeom>
          <a:noFill/>
          <a:ln w="12600">
            <a:solidFill>
              <a:srgbClr val="92cdd2"/>
            </a:solidFill>
            <a:prstDash val="dash"/>
            <a:round/>
            <a:headEnd len="sm" type="oval" w="sm"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556160" y="4008600"/>
            <a:ext cx="1434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OV-Ray Patches v3.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389480" y="4044960"/>
            <a:ext cx="141120" cy="150840"/>
          </a:xfrm>
          <a:prstGeom prst="ellipse">
            <a:avLst/>
          </a:prstGeom>
          <a:noFill/>
          <a:ln w="57240">
            <a:solidFill>
              <a:srgbClr val="f9ee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81360" y="504720"/>
            <a:ext cx="106992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342720" y="1079280"/>
            <a:ext cx="6172200" cy="117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inks within the categories shown in blue would be heavily trimmed. We would be highly selective, only targetting other major sites. E.g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oo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kip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 small number of major, well established reposi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ose shown in green would be more dynamic, with contributions being accepted from the POV-Ray community (still filtered through an administrator). Anyone with appropriate materials could get their links added to these categori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18:03:50Z</dcterms:created>
  <dc:creator>Chris Bartlett</dc:creator>
  <dc:description/>
  <dc:language>en-US</dc:language>
  <cp:lastModifiedBy>Chris Bartlett</cp:lastModifiedBy>
  <dcterms:modified xsi:type="dcterms:W3CDTF">2006-05-09T11:46:28Z</dcterms:modified>
  <cp:revision>150</cp:revision>
  <dc:subject/>
  <dc:title>Slide 1</dc:title>
</cp:coreProperties>
</file>