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6858000" cy="14403388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F012E-464D-4AF3-880B-3FC9A5BBE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3360240"/>
            <a:ext cx="6172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8323920"/>
            <a:ext cx="6172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41B9A-CE6D-4A93-92F6-D91B90BF3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336024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336024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832392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832392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38B3E-6003-4E0C-8AB4-FF1C573A3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3360240"/>
            <a:ext cx="1987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3360240"/>
            <a:ext cx="1987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3360240"/>
            <a:ext cx="1987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8323920"/>
            <a:ext cx="1987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8323920"/>
            <a:ext cx="1987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8323920"/>
            <a:ext cx="1987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09762-BBB8-4080-9B1F-ED4777F75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3360240"/>
            <a:ext cx="6172200" cy="95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8C713-8ED8-4B79-9395-FF84C38A7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3360240"/>
            <a:ext cx="6172200" cy="950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16307-8D2B-480A-B658-6A7490808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3360240"/>
            <a:ext cx="3011760" cy="950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3360240"/>
            <a:ext cx="3011760" cy="950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BBD17-C096-4CB8-B378-F748F24CE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AE4E3-547D-41C2-9E03-5D9F3BF06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577800"/>
            <a:ext cx="6172200" cy="111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F10AF-1707-4FC8-B041-E7DFBAA9D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336024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3360240"/>
            <a:ext cx="3011760" cy="950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832392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867B6-003E-4C77-AD87-78026D2B3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3360240"/>
            <a:ext cx="3011760" cy="950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336024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832392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48172-EC56-484B-9AC5-247099C49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336024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336024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8323920"/>
            <a:ext cx="6172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50F93-9696-4C16-9A90-E7B506B27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3360240"/>
            <a:ext cx="6172200" cy="950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13114440"/>
            <a:ext cx="16002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13114440"/>
            <a:ext cx="217152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13114440"/>
            <a:ext cx="16002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00AA8-AE76-4297-AA86-8CDDE21842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65360" y="5172120"/>
            <a:ext cx="79236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537000" y="8675640"/>
            <a:ext cx="79200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925800" y="5051520"/>
            <a:ext cx="1797120" cy="2952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25800" y="8443800"/>
            <a:ext cx="1797120" cy="5796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403280" y="6663960"/>
            <a:ext cx="749520" cy="324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809720" y="4179960"/>
            <a:ext cx="1968480" cy="492768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809720" y="8524800"/>
            <a:ext cx="1968480" cy="2858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394080" y="7332840"/>
            <a:ext cx="79200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809720" y="7180200"/>
            <a:ext cx="1968480" cy="2858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806480" y="5027760"/>
            <a:ext cx="1968480" cy="2808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925800" y="6643800"/>
            <a:ext cx="1797120" cy="137628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698920" y="3701880"/>
            <a:ext cx="14414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222800" y="5070600"/>
            <a:ext cx="6825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32280" y="5070600"/>
            <a:ext cx="24768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932280" y="3166920"/>
            <a:ext cx="1079280" cy="106236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32000" y="3633840"/>
            <a:ext cx="8636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332000" y="2914560"/>
            <a:ext cx="8636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332000" y="2449440"/>
            <a:ext cx="8636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32000" y="1960560"/>
            <a:ext cx="8636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332000" y="1220760"/>
            <a:ext cx="8636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811160" y="3257640"/>
            <a:ext cx="1968840" cy="8316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811160" y="3517920"/>
            <a:ext cx="1968840" cy="2858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403280" y="11883960"/>
            <a:ext cx="8636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436760" y="11248920"/>
            <a:ext cx="8636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405080" y="10083960"/>
            <a:ext cx="86328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11160" y="1643040"/>
            <a:ext cx="1968840" cy="56988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811160" y="2297160"/>
            <a:ext cx="1968840" cy="2858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811160" y="2658960"/>
            <a:ext cx="1968840" cy="5144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811160" y="9202680"/>
            <a:ext cx="1968840" cy="177336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811160" y="11057040"/>
            <a:ext cx="1968840" cy="3236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811160" y="11472840"/>
            <a:ext cx="1968840" cy="93996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811160" y="955800"/>
            <a:ext cx="1968840" cy="54612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07800" y="143028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07800" y="1806480"/>
            <a:ext cx="1224000" cy="3114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07800" y="2290680"/>
            <a:ext cx="1224000" cy="3114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07800" y="275904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07800" y="347832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07800" y="651528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07800" y="992520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7800" y="11082240"/>
            <a:ext cx="1224000" cy="3114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07800" y="11667960"/>
            <a:ext cx="1224000" cy="4320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7800" y="1221912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07800" y="105408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79600" y="1047240"/>
            <a:ext cx="74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Animation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24000" y="103500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-36360" y="110808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760920" y="110808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041560" y="1197000"/>
            <a:ext cx="1427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ompression Codec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835280" y="1172160"/>
            <a:ext cx="2379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070000" y="118116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867280" y="118116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041560" y="988920"/>
            <a:ext cx="1859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Utilities and Include Fi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835280" y="933480"/>
            <a:ext cx="2379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077920" y="128124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077920" y="103680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875200" y="103680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79600" y="1439640"/>
            <a:ext cx="93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Discussion Foru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142560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-38160" y="174312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-38160" y="149868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759120" y="149868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79600" y="1790280"/>
            <a:ext cx="103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Image and Texture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4000" y="178488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-38160" y="185724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-38160" y="210168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-38160" y="18572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759120" y="18572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041560" y="1906560"/>
            <a:ext cx="1522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xture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835280" y="1873800"/>
            <a:ext cx="2379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041560" y="1654200"/>
            <a:ext cx="1378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mage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835280" y="1621440"/>
            <a:ext cx="2379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070000" y="1771560"/>
            <a:ext cx="0" cy="488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867280" y="1771560"/>
            <a:ext cx="0" cy="488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79600" y="2343960"/>
            <a:ext cx="68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Link Si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4000" y="227484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-17640" y="2347920"/>
            <a:ext cx="3797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-17640" y="23479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780000" y="23479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041560" y="2314440"/>
            <a:ext cx="923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d Link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35280" y="2280240"/>
            <a:ext cx="2379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070000" y="23479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867280" y="23479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9600" y="2757240"/>
            <a:ext cx="8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Magazines, Lists, and FAQ'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24000" y="274212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9360" y="2665440"/>
            <a:ext cx="3797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9360" y="2909880"/>
            <a:ext cx="3797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9360" y="26654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807000" y="26654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041560" y="2894040"/>
            <a:ext cx="1192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nline Magazin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835280" y="2863800"/>
            <a:ext cx="2379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041560" y="2654280"/>
            <a:ext cx="779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Q'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835280" y="2619360"/>
            <a:ext cx="2379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575080" y="298116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575080" y="2492280"/>
            <a:ext cx="0" cy="488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372360" y="2492280"/>
            <a:ext cx="0" cy="488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79600" y="3536280"/>
            <a:ext cx="896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Model Si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24000" y="345600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9360" y="3168720"/>
            <a:ext cx="3797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9360" y="3413160"/>
            <a:ext cx="3797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9360" y="31687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807000" y="31687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041560" y="3544920"/>
            <a:ext cx="1282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X, WRL, DXF, COB, OBJ, IO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835280" y="3494520"/>
            <a:ext cx="2379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041560" y="3270240"/>
            <a:ext cx="1139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S Mode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835280" y="3231000"/>
            <a:ext cx="2379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457360" y="3024360"/>
            <a:ext cx="0" cy="488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254640" y="3024360"/>
            <a:ext cx="0" cy="488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186080" y="3932280"/>
            <a:ext cx="8985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xed Forma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643280" y="2852640"/>
            <a:ext cx="0" cy="9781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041560" y="3817800"/>
            <a:ext cx="1522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arge / Mixed Collec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35280" y="3758040"/>
            <a:ext cx="2379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476440" y="391788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476440" y="36734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273720" y="36734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9600" y="6538320"/>
            <a:ext cx="68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24000" y="647604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08000" y="4062240"/>
            <a:ext cx="0" cy="244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905280" y="4062240"/>
            <a:ext cx="0" cy="244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130480" y="504360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nts and Font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838160" y="49989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130480" y="477360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version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838160" y="47307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130480" y="4503600"/>
            <a:ext cx="1550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ercial 3D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38160" y="446292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130480" y="4235400"/>
            <a:ext cx="14796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emical/Molecular Modelling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838160" y="419580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673360" y="386064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673360" y="483876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673360" y="3860640"/>
            <a:ext cx="0" cy="9781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0640" y="3860640"/>
            <a:ext cx="0" cy="9781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383080" y="461016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0480" y="7197840"/>
            <a:ext cx="1722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Unofficial  Patches and Front End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838160" y="714528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130480" y="6929280"/>
            <a:ext cx="1722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Official Versions &amp;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838160" y="687708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130480" y="6659640"/>
            <a:ext cx="1722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Modelling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838160" y="660924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130480" y="638964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lling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838160" y="634104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130480" y="6119640"/>
            <a:ext cx="1342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sc. POV-Ray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838160" y="607212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130480" y="585144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sh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838160" y="580392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130480" y="558180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Syste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838160" y="553608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130480" y="531180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eight Field Modelling Programs and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838160" y="526788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09720" y="4842000"/>
            <a:ext cx="3878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709720" y="6797520"/>
            <a:ext cx="3878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709720" y="4842000"/>
            <a:ext cx="0" cy="1955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588000" y="4842000"/>
            <a:ext cx="0" cy="1955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187880" y="773424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970440" y="773424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187880" y="7470720"/>
            <a:ext cx="1326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970440" y="747072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187880" y="720900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970440" y="720900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187880" y="694548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2.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970440" y="694548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187880" y="6683400"/>
            <a:ext cx="16174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Front End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970440" y="668340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535800" y="6222960"/>
            <a:ext cx="0" cy="12225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130480" y="854568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oftWare Graphics - Misc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838160" y="848736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30480" y="827568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plines and Pip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838160" y="821844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130480" y="800568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hells, Spirals, and Helix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838160" y="795024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130480" y="773748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Raytracing and Rendering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838160" y="768240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130480" y="7467480"/>
            <a:ext cx="157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grams Under Developme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838160" y="741420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719440" y="802152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719440" y="6799320"/>
            <a:ext cx="0" cy="1222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516720" y="6799320"/>
            <a:ext cx="0" cy="1222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199040" y="8744040"/>
            <a:ext cx="1282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hotoShop and PSP Filter Plugi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81600" y="8731080"/>
            <a:ext cx="228600" cy="2448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199040" y="8470800"/>
            <a:ext cx="995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TP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81600" y="847080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535800" y="7677000"/>
            <a:ext cx="0" cy="489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130480" y="881532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xture Editors and Too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838160" y="875556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719440" y="802152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719440" y="826596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719440" y="80215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516720" y="80215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79600" y="9928080"/>
            <a:ext cx="9680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24000" y="989640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041560" y="10704600"/>
            <a:ext cx="159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versity Graphics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839960" y="1064736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041560" y="10488600"/>
            <a:ext cx="18604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solid construction method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839960" y="1040292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041560" y="10228320"/>
            <a:ext cx="1355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gramming 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839960" y="1015884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041560" y="10032840"/>
            <a:ext cx="13557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isc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839960" y="991440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041560" y="9788400"/>
            <a:ext cx="1643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th and Geometry Resources and Inform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839960" y="966996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41560" y="9435960"/>
            <a:ext cx="1716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uman - Animal Motion Stud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839960" y="942552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41560" y="9220320"/>
            <a:ext cx="1355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acta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839960" y="918108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79600" y="11120400"/>
            <a:ext cx="968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Tutoria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4000" y="1105740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041560" y="11101320"/>
            <a:ext cx="1112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Tutoria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841400" y="11041560"/>
            <a:ext cx="2271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79600" y="11771280"/>
            <a:ext cx="968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Include, Macro, and Object Fi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24000" y="1172412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041560" y="12176280"/>
            <a:ext cx="1022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bject and Scene Fi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839960" y="1206864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041560" y="11795040"/>
            <a:ext cx="1022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cro Fi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839960" y="1176660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041560" y="11509200"/>
            <a:ext cx="10224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lude Fi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839960" y="1146384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79600" y="12247560"/>
            <a:ext cx="968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eople P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24000" y="1218780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981600" y="3893040"/>
            <a:ext cx="24912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186080" y="3687840"/>
            <a:ext cx="546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O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981600" y="3648600"/>
            <a:ext cx="24912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186080" y="3443400"/>
            <a:ext cx="401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X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981600" y="3404160"/>
            <a:ext cx="24912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186080" y="3198960"/>
            <a:ext cx="546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981600" y="3159720"/>
            <a:ext cx="24912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844280" y="288720"/>
            <a:ext cx="2305080" cy="2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rent Hierarc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1476360" y="7277040"/>
            <a:ext cx="1592280" cy="2700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170080" y="6692760"/>
            <a:ext cx="1968480" cy="111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874880" y="3843360"/>
            <a:ext cx="137628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173320" y="2978280"/>
            <a:ext cx="1968480" cy="352872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189160" y="2994120"/>
            <a:ext cx="1936800" cy="287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693720" y="9723600"/>
            <a:ext cx="122400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170080" y="7155000"/>
            <a:ext cx="1968480" cy="285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754440" y="3433680"/>
            <a:ext cx="79200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170080" y="3281400"/>
            <a:ext cx="1968480" cy="2858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286160" y="2978280"/>
            <a:ext cx="1797120" cy="191916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176560" y="5924520"/>
            <a:ext cx="247680" cy="24444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68160" y="2104920"/>
            <a:ext cx="1224000" cy="398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95160" y="9321840"/>
            <a:ext cx="122400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68160" y="3643200"/>
            <a:ext cx="1224000" cy="41112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668160" y="254016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76440" y="8013600"/>
            <a:ext cx="1223640" cy="4320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95160" y="1056168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540160" y="7455960"/>
            <a:ext cx="124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imation Utilities &amp; Compression Codec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205000" y="7446960"/>
            <a:ext cx="22716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939960" y="2070000"/>
            <a:ext cx="96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wsgroups, Discussion Forums &amp; FAQ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84360" y="2116080"/>
            <a:ext cx="22680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192560" y="122400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95280" y="158256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95280" y="1582560"/>
            <a:ext cx="0" cy="244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503440" y="1496880"/>
            <a:ext cx="0" cy="489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965160" y="9776880"/>
            <a:ext cx="968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lated Links Si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704880" y="9711360"/>
            <a:ext cx="22716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15800" y="20732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503440" y="20732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42800" y="239076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008160" y="2217600"/>
            <a:ext cx="0" cy="489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966960" y="9319680"/>
            <a:ext cx="67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Object Search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42800" y="28940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939960" y="3622680"/>
            <a:ext cx="1039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Specific Programs, Utilities and Patch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684360" y="3680280"/>
            <a:ext cx="2268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541440" y="37879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2490840" y="594828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nts and Font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494080" y="437040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version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176560" y="4286160"/>
            <a:ext cx="22860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816520" y="433548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490840" y="3298680"/>
            <a:ext cx="1722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Unofficial  Patches and Front End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176560" y="3219480"/>
            <a:ext cx="22860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490840" y="3022560"/>
            <a:ext cx="1722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Official Versions &amp;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176560" y="2954880"/>
            <a:ext cx="2286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490840" y="3579840"/>
            <a:ext cx="1722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Modelling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2176560" y="3486600"/>
            <a:ext cx="2286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490840" y="6804000"/>
            <a:ext cx="158580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odelling, Rendering and Other Raytracing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98520" y="6744240"/>
            <a:ext cx="2286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486160" y="617868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sc. POV-Ray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176560" y="6131520"/>
            <a:ext cx="2286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90840" y="488304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sh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176560" y="4818600"/>
            <a:ext cx="2286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490840" y="464184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Syste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176560" y="4552920"/>
            <a:ext cx="22860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2494080" y="411012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eight Field Modelling Programs and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4548240" y="406872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4330800" y="4068720"/>
            <a:ext cx="228600" cy="24444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548240" y="3805200"/>
            <a:ext cx="1326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330800" y="3805200"/>
            <a:ext cx="228600" cy="24444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4548240" y="354348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330800" y="3543480"/>
            <a:ext cx="228600" cy="24444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4548240" y="3279600"/>
            <a:ext cx="14349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2.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4330800" y="3279600"/>
            <a:ext cx="228600" cy="2448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548240" y="3017880"/>
            <a:ext cx="16174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Front End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4330800" y="3017880"/>
            <a:ext cx="228600" cy="24444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490840" y="7175520"/>
            <a:ext cx="1514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Graphics SoftWa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198520" y="7117200"/>
            <a:ext cx="2286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490840" y="541980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plines and Pip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2176560" y="5351400"/>
            <a:ext cx="22860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490840" y="514980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hells, Spirals, and Helix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176560" y="5085360"/>
            <a:ext cx="2286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3152880" y="6524640"/>
            <a:ext cx="0" cy="1222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2490840" y="569268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xture Editors and Too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2176560" y="5618160"/>
            <a:ext cx="22860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152880" y="7746840"/>
            <a:ext cx="0" cy="244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939960" y="2577960"/>
            <a:ext cx="968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utoria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674640" y="2511360"/>
            <a:ext cx="22716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947880" y="8116920"/>
            <a:ext cx="968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Include, Macro, and Object Fi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704880" y="8051760"/>
            <a:ext cx="22716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966960" y="10590120"/>
            <a:ext cx="968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Team P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704880" y="10530360"/>
            <a:ext cx="22716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684360" y="8521560"/>
            <a:ext cx="1223640" cy="311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955800" y="8550360"/>
            <a:ext cx="968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aller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704880" y="8489880"/>
            <a:ext cx="22716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76440" y="1547640"/>
            <a:ext cx="1223640" cy="311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826920" y="1582560"/>
            <a:ext cx="15224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ground Read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684360" y="1522440"/>
            <a:ext cx="23796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684360" y="8920080"/>
            <a:ext cx="1223640" cy="311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698400" y="8907480"/>
            <a:ext cx="23832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955800" y="8918280"/>
            <a:ext cx="102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mage/Texture  Search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68160" y="7132680"/>
            <a:ext cx="122400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939960" y="7111800"/>
            <a:ext cx="966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ther Programs and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704880" y="7121520"/>
            <a:ext cx="22716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2540160" y="3833280"/>
            <a:ext cx="1249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nimation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2176560" y="3753360"/>
            <a:ext cx="2268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549680" y="4322880"/>
            <a:ext cx="1435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0480" y="1013616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906480" y="10166400"/>
            <a:ext cx="1082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aborativ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rojec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04880" y="10112400"/>
            <a:ext cx="22860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916280" y="144360"/>
            <a:ext cx="2520720" cy="5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osed Hierarc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343400" y="4322880"/>
            <a:ext cx="228600" cy="24444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171880" y="3997800"/>
            <a:ext cx="2268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700200" y="9307440"/>
            <a:ext cx="23796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213000" y="725400"/>
            <a:ext cx="505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3575160" y="725400"/>
            <a:ext cx="142920" cy="311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575160" y="1057320"/>
            <a:ext cx="14292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3789360" y="770040"/>
            <a:ext cx="1728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w Maintenance Categorie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3789360" y="1092240"/>
            <a:ext cx="1441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re Dynamic Categor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4556160" y="457992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4346640" y="4576680"/>
            <a:ext cx="228600" cy="24444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4095720" y="4888080"/>
            <a:ext cx="190440" cy="69840"/>
          </a:xfrm>
          <a:prstGeom prst="rect">
            <a:avLst/>
          </a:prstGeom>
          <a:solidFill>
            <a:srgbClr val="95ff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187880" y="4680000"/>
            <a:ext cx="1968480" cy="865080"/>
          </a:xfrm>
          <a:prstGeom prst="rect">
            <a:avLst/>
          </a:prstGeom>
          <a:solidFill>
            <a:srgbClr val="d7ff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4262400" y="4681440"/>
            <a:ext cx="18972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stricted to  content related to POV-Ray. For example, Designed specifically for POV-Ray or outputs in a  POV-Ray specific forma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4005360" y="648324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029120" y="673272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3981600" y="698652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1476360" y="6746760"/>
            <a:ext cx="1592280" cy="2700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2170080" y="6162840"/>
            <a:ext cx="1968480" cy="1114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178160" y="6408720"/>
            <a:ext cx="1698840" cy="720720"/>
          </a:xfrm>
          <a:prstGeom prst="rect">
            <a:avLst/>
          </a:prstGeom>
          <a:solidFill>
            <a:srgbClr val="e3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4246560" y="6624720"/>
            <a:ext cx="191772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 or 3 Link to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Link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Pages eac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1835280" y="10285560"/>
            <a:ext cx="190440" cy="69840"/>
          </a:xfrm>
          <a:prstGeom prst="rect">
            <a:avLst/>
          </a:prstGeom>
          <a:solidFill>
            <a:srgbClr val="95ff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1954080" y="10163160"/>
            <a:ext cx="1968480" cy="344520"/>
          </a:xfrm>
          <a:prstGeom prst="rect">
            <a:avLst/>
          </a:prstGeom>
          <a:solidFill>
            <a:srgbClr val="d7ff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978200" y="10186920"/>
            <a:ext cx="19443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elated Development Initiativ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1787400" y="2131920"/>
            <a:ext cx="190800" cy="69840"/>
          </a:xfrm>
          <a:prstGeom prst="rect">
            <a:avLst/>
          </a:prstGeom>
          <a:solidFill>
            <a:srgbClr val="95ff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835280" y="10723680"/>
            <a:ext cx="190440" cy="69840"/>
          </a:xfrm>
          <a:prstGeom prst="rect">
            <a:avLst/>
          </a:prstGeom>
          <a:solidFill>
            <a:srgbClr val="95ff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1785960" y="113832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785960" y="172728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1808280" y="824544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1785960" y="880596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1785960" y="943452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1785960" y="987732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1874880" y="3313080"/>
            <a:ext cx="137628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2173320" y="2448000"/>
            <a:ext cx="1968480" cy="352908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2189160" y="2463840"/>
            <a:ext cx="1936800" cy="287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379440" y="7516800"/>
            <a:ext cx="2379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693720" y="9764640"/>
            <a:ext cx="1224000" cy="311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2170080" y="6624720"/>
            <a:ext cx="1968480" cy="285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3754440" y="2903400"/>
            <a:ext cx="79200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2170080" y="2751120"/>
            <a:ext cx="1968480" cy="2858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286160" y="2448000"/>
            <a:ext cx="1797120" cy="187308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2176560" y="5394240"/>
            <a:ext cx="24768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1952640" y="9779040"/>
            <a:ext cx="1968480" cy="285840"/>
          </a:xfrm>
          <a:prstGeom prst="rect">
            <a:avLst/>
          </a:prstGeom>
          <a:solidFill>
            <a:srgbClr val="e3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1932120" y="2055960"/>
            <a:ext cx="1968480" cy="228600"/>
          </a:xfrm>
          <a:prstGeom prst="rect">
            <a:avLst/>
          </a:prstGeom>
          <a:solidFill>
            <a:srgbClr val="d7ff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668160" y="1574640"/>
            <a:ext cx="1224000" cy="398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695160" y="9325080"/>
            <a:ext cx="122400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668160" y="3112920"/>
            <a:ext cx="1224000" cy="41148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668160" y="200988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76440" y="7483320"/>
            <a:ext cx="1223640" cy="4320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695160" y="1061244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2540160" y="6926040"/>
            <a:ext cx="124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imation Utilities &amp; Compression Codec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2205000" y="6850080"/>
            <a:ext cx="2271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2197080" y="7051680"/>
            <a:ext cx="23832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939960" y="1539720"/>
            <a:ext cx="96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wsgroups, Discussion Forums &amp; FAQ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84360" y="158652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4192560" y="6937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5280" y="105264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95280" y="10526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2503440" y="966960"/>
            <a:ext cx="0" cy="488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965160" y="9817920"/>
            <a:ext cx="968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lated Links Si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92280" y="967644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15800" y="154296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978200" y="9796320"/>
            <a:ext cx="1522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inks to Links P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763560" y="9818640"/>
            <a:ext cx="23832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503440" y="154296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442800" y="186048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3008160" y="1687680"/>
            <a:ext cx="0" cy="488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966960" y="9322920"/>
            <a:ext cx="67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Object Search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42800" y="236376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939960" y="3092400"/>
            <a:ext cx="1039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Specific Programs, Utilities and Patch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684360" y="314964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541440" y="32576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490840" y="541800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nts and Font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008080" y="53355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494080" y="384012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version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176560" y="375660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008080" y="61149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008080" y="629172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5816520" y="380520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490840" y="2768760"/>
            <a:ext cx="1722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Unofficial  Patches and Front End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176560" y="268920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490840" y="2492280"/>
            <a:ext cx="1722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Official Versions &amp;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176560" y="242460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490840" y="3049560"/>
            <a:ext cx="1722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Modelling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176560" y="29559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490840" y="6273720"/>
            <a:ext cx="158580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odelling, Rendering and Other Raytracing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198520" y="61149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486160" y="564840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sc. POV-Ray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176560" y="560124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490840" y="4352760"/>
            <a:ext cx="1342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sh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176560" y="428832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2490840" y="411156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Syste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176560" y="402264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494080" y="357984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eight Field Modelling Programs and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2176560" y="348984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4548240" y="353844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4330800" y="353844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4548240" y="3274920"/>
            <a:ext cx="1326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330800" y="327492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4548240" y="301320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4330800" y="301320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4548240" y="274968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2.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4330800" y="274968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4548240" y="2487600"/>
            <a:ext cx="16174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Front End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4330800" y="248760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490840" y="6645240"/>
            <a:ext cx="1514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Graphics SoftWa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8520" y="65865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490840" y="488952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plines and Pip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176560" y="482184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2490840" y="461952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hells, Spirals, and Helix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176560" y="455508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2198520" y="628704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3152880" y="5994360"/>
            <a:ext cx="0" cy="12225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2027160" y="674064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2027160" y="655308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490840" y="5162400"/>
            <a:ext cx="13096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xture Editors and Too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176560" y="508788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3152880" y="72169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425680" y="11808000"/>
            <a:ext cx="968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2170080" y="11776680"/>
            <a:ext cx="2271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2505240" y="13598640"/>
            <a:ext cx="159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versity Graphics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2303640" y="1354140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2503440" y="13382640"/>
            <a:ext cx="16718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solid construction method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2303640" y="1329696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2505240" y="13122360"/>
            <a:ext cx="1355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gramming 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2303640" y="1305288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2505240" y="12926880"/>
            <a:ext cx="1355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isc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2303640" y="1280844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2505240" y="12682440"/>
            <a:ext cx="1643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th and Geometry Resources and Inform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2303640" y="1256400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505240" y="12330000"/>
            <a:ext cx="1715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uman - Animal Motion Stud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03640" y="1231956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505240" y="12114360"/>
            <a:ext cx="1355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acta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03640" y="1207512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939960" y="2048040"/>
            <a:ext cx="968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utoria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684360" y="189540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755640" y="2073240"/>
            <a:ext cx="2271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947880" y="7586640"/>
            <a:ext cx="968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Include, Macro, and Object Fi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531720" y="7437960"/>
            <a:ext cx="2271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698400" y="7604640"/>
            <a:ext cx="2271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690480" y="7435800"/>
            <a:ext cx="2271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531720" y="7604640"/>
            <a:ext cx="2271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966960" y="10640880"/>
            <a:ext cx="968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Team P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711360" y="1058112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8" name=""/>
          <p:cNvGrpSpPr/>
          <p:nvPr/>
        </p:nvGrpSpPr>
        <p:grpSpPr>
          <a:xfrm>
            <a:off x="387360" y="9122400"/>
            <a:ext cx="609480" cy="644040"/>
            <a:chOff x="387360" y="9122400"/>
            <a:chExt cx="609480" cy="644040"/>
          </a:xfrm>
        </p:grpSpPr>
        <p:sp>
          <p:nvSpPr>
            <p:cNvPr id="509" name=""/>
            <p:cNvSpPr/>
            <p:nvPr/>
          </p:nvSpPr>
          <p:spPr>
            <a:xfrm>
              <a:off x="387360" y="9122400"/>
              <a:ext cx="227160" cy="3042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4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387360" y="9462240"/>
              <a:ext cx="237960" cy="3042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387360" y="9292320"/>
              <a:ext cx="237960" cy="3042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747720" y="9292320"/>
              <a:ext cx="237960" cy="3042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1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747720" y="9123480"/>
              <a:ext cx="249120" cy="30492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563400" y="9462240"/>
              <a:ext cx="249480" cy="3042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9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563400" y="9292320"/>
              <a:ext cx="249480" cy="3042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8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563400" y="9122400"/>
              <a:ext cx="249480" cy="3042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7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7" name=""/>
          <p:cNvSpPr/>
          <p:nvPr/>
        </p:nvSpPr>
        <p:spPr>
          <a:xfrm>
            <a:off x="684360" y="8124840"/>
            <a:ext cx="122364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955800" y="8153280"/>
            <a:ext cx="968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aller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700200" y="809352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1946160" y="8051760"/>
            <a:ext cx="1968480" cy="432000"/>
          </a:xfrm>
          <a:prstGeom prst="rect">
            <a:avLst/>
          </a:prstGeom>
          <a:solidFill>
            <a:srgbClr val="e3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1969920" y="7980480"/>
            <a:ext cx="13431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ing Index P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1969920" y="8136000"/>
            <a:ext cx="1522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RTC Winners 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1969920" y="8267760"/>
            <a:ext cx="1486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all of Fame 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676440" y="1017720"/>
            <a:ext cx="122364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1930320" y="868320"/>
            <a:ext cx="1968480" cy="615960"/>
          </a:xfrm>
          <a:prstGeom prst="rect">
            <a:avLst/>
          </a:prstGeom>
          <a:solidFill>
            <a:srgbClr val="e3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1954080" y="809640"/>
            <a:ext cx="2016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rinciples of Raytracing (Wikipedia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1954080" y="1052640"/>
            <a:ext cx="1847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History of POV-Ray/DKBTrace (Documentation 1.1.5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1954080" y="9172440"/>
            <a:ext cx="1968480" cy="582840"/>
          </a:xfrm>
          <a:prstGeom prst="rect">
            <a:avLst/>
          </a:prstGeom>
          <a:solidFill>
            <a:srgbClr val="e3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1978200" y="9161640"/>
            <a:ext cx="2016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 set of predefined Google searches for 3DS Models,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AX, WRL, DXF, COB, OBJ, IOB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978200" y="9396360"/>
            <a:ext cx="1522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inks to Model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Link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P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1978200" y="9555120"/>
            <a:ext cx="19443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 or 5 Very Large Model Archiv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826920" y="1052640"/>
            <a:ext cx="1522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ground Read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3467160" y="9504360"/>
            <a:ext cx="576360" cy="417600"/>
          </a:xfrm>
          <a:custGeom>
            <a:avLst/>
            <a:gdLst/>
            <a:ahLst/>
            <a:rect l="l" t="t" r="r" b="b"/>
            <a:pathLst>
              <a:path w="363" h="451">
                <a:moveTo>
                  <a:pt x="0" y="26"/>
                </a:moveTo>
                <a:cubicBezTo>
                  <a:pt x="51" y="31"/>
                  <a:pt x="250" y="0"/>
                  <a:pt x="306" y="53"/>
                </a:cubicBezTo>
                <a:cubicBezTo>
                  <a:pt x="363" y="106"/>
                  <a:pt x="347" y="279"/>
                  <a:pt x="341" y="343"/>
                </a:cubicBezTo>
                <a:cubicBezTo>
                  <a:pt x="336" y="406"/>
                  <a:pt x="284" y="423"/>
                  <a:pt x="271" y="437"/>
                </a:cubicBezTo>
                <a:cubicBezTo>
                  <a:pt x="258" y="451"/>
                  <a:pt x="265" y="429"/>
                  <a:pt x="263" y="427"/>
                </a:cubicBezTo>
              </a:path>
            </a:pathLst>
          </a:custGeom>
          <a:noFill/>
          <a:ln w="12600">
            <a:solidFill>
              <a:srgbClr val="92cdd2"/>
            </a:solidFill>
            <a:prstDash val="dash"/>
            <a:round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1962000" y="1239840"/>
            <a:ext cx="1192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nline Magazin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555480" y="867240"/>
            <a:ext cx="2271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708120" y="1180080"/>
            <a:ext cx="2379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627120" y="1011240"/>
            <a:ext cx="2379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1932120" y="1515960"/>
            <a:ext cx="1968480" cy="505080"/>
          </a:xfrm>
          <a:prstGeom prst="rect">
            <a:avLst/>
          </a:prstGeom>
          <a:solidFill>
            <a:srgbClr val="e3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1955880" y="1611360"/>
            <a:ext cx="191772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Group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ller Groups (Moray etc.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n-POV-Ray Specific (but related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1954080" y="2028960"/>
            <a:ext cx="18972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Related Tutoria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684360" y="8694720"/>
            <a:ext cx="122364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1947960" y="8521560"/>
            <a:ext cx="1968480" cy="623880"/>
          </a:xfrm>
          <a:prstGeom prst="rect">
            <a:avLst/>
          </a:prstGeom>
          <a:solidFill>
            <a:srgbClr val="e3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1971720" y="8537400"/>
            <a:ext cx="20160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 set of predefined Google searches for downloadable Image File Typ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1971720" y="8767800"/>
            <a:ext cx="1903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inks to Image/Texture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Link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P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1971720" y="8913960"/>
            <a:ext cx="1469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 or 6 Very Large Archiv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539640" y="8578800"/>
            <a:ext cx="2271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606600" y="8729640"/>
            <a:ext cx="2379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662040" y="8853480"/>
            <a:ext cx="2379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955800" y="8692920"/>
            <a:ext cx="102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mage/Texture  Search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786120" y="8842320"/>
            <a:ext cx="417600" cy="1085760"/>
          </a:xfrm>
          <a:custGeom>
            <a:avLst/>
            <a:gdLst/>
            <a:ahLst/>
            <a:rect l="l" t="t" r="r" b="b"/>
            <a:pathLst>
              <a:path w="263" h="952">
                <a:moveTo>
                  <a:pt x="0" y="55"/>
                </a:moveTo>
                <a:cubicBezTo>
                  <a:pt x="38" y="64"/>
                  <a:pt x="179" y="0"/>
                  <a:pt x="221" y="110"/>
                </a:cubicBezTo>
                <a:cubicBezTo>
                  <a:pt x="263" y="220"/>
                  <a:pt x="255" y="584"/>
                  <a:pt x="250" y="718"/>
                </a:cubicBezTo>
                <a:cubicBezTo>
                  <a:pt x="245" y="852"/>
                  <a:pt x="223" y="882"/>
                  <a:pt x="192" y="917"/>
                </a:cubicBezTo>
                <a:cubicBezTo>
                  <a:pt x="160" y="952"/>
                  <a:pt x="91" y="928"/>
                  <a:pt x="65" y="930"/>
                </a:cubicBezTo>
              </a:path>
            </a:pathLst>
          </a:custGeom>
          <a:noFill/>
          <a:ln w="12600">
            <a:solidFill>
              <a:srgbClr val="92cdd2"/>
            </a:solidFill>
            <a:prstDash val="dash"/>
            <a:round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668160" y="6602400"/>
            <a:ext cx="122400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939960" y="6581520"/>
            <a:ext cx="966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ther Programs and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684360" y="656316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250920" y="8294760"/>
            <a:ext cx="469800" cy="2435040"/>
          </a:xfrm>
          <a:custGeom>
            <a:avLst/>
            <a:gdLst/>
            <a:ahLst/>
            <a:rect l="l" t="t" r="r" b="b"/>
            <a:pathLst>
              <a:path w="223" h="1522">
                <a:moveTo>
                  <a:pt x="223" y="0"/>
                </a:moveTo>
                <a:cubicBezTo>
                  <a:pt x="191" y="38"/>
                  <a:pt x="64" y="19"/>
                  <a:pt x="32" y="231"/>
                </a:cubicBezTo>
                <a:cubicBezTo>
                  <a:pt x="0" y="443"/>
                  <a:pt x="5" y="1060"/>
                  <a:pt x="32" y="1275"/>
                </a:cubicBezTo>
                <a:cubicBezTo>
                  <a:pt x="59" y="1490"/>
                  <a:pt x="162" y="1471"/>
                  <a:pt x="196" y="1522"/>
                </a:cubicBezTo>
              </a:path>
            </a:pathLst>
          </a:custGeom>
          <a:noFill/>
          <a:ln w="19080">
            <a:solidFill>
              <a:srgbClr val="f9ee19"/>
            </a:solidFill>
            <a:round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322200" y="3313080"/>
            <a:ext cx="354240" cy="3382920"/>
          </a:xfrm>
          <a:custGeom>
            <a:avLst/>
            <a:gdLst/>
            <a:ahLst/>
            <a:rect l="l" t="t" r="r" b="b"/>
            <a:pathLst>
              <a:path w="223" h="1522">
                <a:moveTo>
                  <a:pt x="223" y="0"/>
                </a:moveTo>
                <a:cubicBezTo>
                  <a:pt x="191" y="38"/>
                  <a:pt x="64" y="19"/>
                  <a:pt x="32" y="231"/>
                </a:cubicBezTo>
                <a:cubicBezTo>
                  <a:pt x="0" y="443"/>
                  <a:pt x="5" y="1060"/>
                  <a:pt x="32" y="1275"/>
                </a:cubicBezTo>
                <a:cubicBezTo>
                  <a:pt x="59" y="1490"/>
                  <a:pt x="162" y="1471"/>
                  <a:pt x="196" y="1522"/>
                </a:cubicBezTo>
              </a:path>
            </a:pathLst>
          </a:custGeom>
          <a:noFill/>
          <a:ln w="19080">
            <a:solidFill>
              <a:srgbClr val="f9ee19"/>
            </a:solidFill>
            <a:round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2540160" y="3303000"/>
            <a:ext cx="1249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nimation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2176560" y="322308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4549680" y="3792600"/>
            <a:ext cx="1435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1954080" y="10601280"/>
            <a:ext cx="1968480" cy="344520"/>
          </a:xfrm>
          <a:prstGeom prst="rect">
            <a:avLst/>
          </a:prstGeom>
          <a:solidFill>
            <a:srgbClr val="d7ff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1978200" y="10693440"/>
            <a:ext cx="1522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Team Members P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inks of Assistance to Tea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690480" y="1018692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906480" y="10217160"/>
            <a:ext cx="1082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aborativ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rojec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717480" y="101631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2120760" y="11304720"/>
            <a:ext cx="1967040" cy="2592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2143080" y="11449080"/>
            <a:ext cx="2006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To Be Removed or merged into Category  9/10 – ‘Links Sites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1916280" y="144360"/>
            <a:ext cx="2520720" cy="5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pp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4076640" y="647640"/>
            <a:ext cx="504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4438800" y="647640"/>
            <a:ext cx="14256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4438800" y="979560"/>
            <a:ext cx="14256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4403880" y="1617840"/>
            <a:ext cx="25056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4653000" y="692280"/>
            <a:ext cx="1512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mall number of Static link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4653000" y="1014480"/>
            <a:ext cx="1441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re Dynamic Categor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4653000" y="1325520"/>
            <a:ext cx="1441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ies to be delet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4653000" y="1608120"/>
            <a:ext cx="1297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ross Reference to current Categor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4438800" y="1311120"/>
            <a:ext cx="142560" cy="2876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4384800" y="3828960"/>
            <a:ext cx="141120" cy="150840"/>
          </a:xfrm>
          <a:prstGeom prst="ellipse">
            <a:avLst/>
          </a:prstGeom>
          <a:noFill/>
          <a:ln w="57240">
            <a:solidFill>
              <a:srgbClr val="f9e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2008080" y="29559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3892680" y="7105680"/>
            <a:ext cx="1427040" cy="2955960"/>
          </a:xfrm>
          <a:custGeom>
            <a:avLst/>
            <a:gdLst/>
            <a:ahLst/>
            <a:rect l="l" t="t" r="r" b="b"/>
            <a:pathLst>
              <a:path w="899" h="1862">
                <a:moveTo>
                  <a:pt x="866" y="0"/>
                </a:moveTo>
                <a:cubicBezTo>
                  <a:pt x="861" y="29"/>
                  <a:pt x="899" y="97"/>
                  <a:pt x="836" y="174"/>
                </a:cubicBezTo>
                <a:cubicBezTo>
                  <a:pt x="773" y="251"/>
                  <a:pt x="567" y="217"/>
                  <a:pt x="488" y="462"/>
                </a:cubicBezTo>
                <a:cubicBezTo>
                  <a:pt x="409" y="707"/>
                  <a:pt x="443" y="1426"/>
                  <a:pt x="362" y="1644"/>
                </a:cubicBezTo>
                <a:cubicBezTo>
                  <a:pt x="281" y="1862"/>
                  <a:pt x="75" y="1742"/>
                  <a:pt x="0" y="1768"/>
                </a:cubicBezTo>
              </a:path>
            </a:pathLst>
          </a:custGeom>
          <a:noFill/>
          <a:ln w="12600">
            <a:solidFill>
              <a:srgbClr val="92cdd2"/>
            </a:solidFill>
            <a:prstDash val="dash"/>
            <a:round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4556160" y="400860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4389480" y="4044960"/>
            <a:ext cx="141120" cy="150840"/>
          </a:xfrm>
          <a:prstGeom prst="ellipse">
            <a:avLst/>
          </a:prstGeom>
          <a:noFill/>
          <a:ln w="57240">
            <a:solidFill>
              <a:srgbClr val="f9e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2781360" y="504720"/>
            <a:ext cx="106992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342720" y="1079280"/>
            <a:ext cx="6172200" cy="1178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Links within the categories shown in blue would be heavily trimmed. We would be highly selective, only targetting other major sites. E.g.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Goog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ikipedi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 small number of major, well established reposito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hose shown in green would be more dynamic, with contributions being accepted from the POV-Ray community (still filtered through an administrator). Anyone with appropriate materials could get their links added to these categori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3T18:03:50Z</dcterms:created>
  <dc:creator>Chris Bartlett</dc:creator>
  <dc:description/>
  <dc:language>en-US</dc:language>
  <cp:lastModifiedBy>Chris Bartlett</cp:lastModifiedBy>
  <dcterms:modified xsi:type="dcterms:W3CDTF">2006-05-09T11:46:28Z</dcterms:modified>
  <cp:revision>150</cp:revision>
  <dc:subject/>
  <dc:title>Slide 1</dc:title>
</cp:coreProperties>
</file>