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14403388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CBA0-3679-49A6-B229-3B6A788A8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4A8F-3508-4D39-BEB0-3DE672332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62F6-7AA2-4E10-A0C2-A13AB9C43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B0C4-3A7D-43F2-BC4D-14232C1E8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DA66-EBAE-40E6-9BDA-54B6A9E74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2984-A7FE-43CA-846F-25425400D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EDEE-C7F4-4268-8E1E-2E0BA22BA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BDBA-34F4-4043-95B9-5AFD45CC1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577800"/>
            <a:ext cx="6172200" cy="11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7C6E-42F6-4C3A-A7B4-890A8BAB3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B301-9468-4961-8331-F5ED4B8B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92A0-CA7C-4045-B725-5D66D860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B068-BE53-4E27-8BEC-B58DE8D2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13114440"/>
            <a:ext cx="2171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70B86-CCBB-4BFB-895E-31B636F58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65360" y="5172120"/>
            <a:ext cx="7923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37000" y="86756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25800" y="5051520"/>
            <a:ext cx="1797120" cy="2952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5800" y="8443800"/>
            <a:ext cx="1797120" cy="579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403280" y="6663960"/>
            <a:ext cx="749520" cy="324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09720" y="4179960"/>
            <a:ext cx="1968480" cy="49276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09720" y="85248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94080" y="73328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09720" y="71802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06480" y="5027760"/>
            <a:ext cx="1968480" cy="2808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25800" y="6643800"/>
            <a:ext cx="1797120" cy="13762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98920" y="3701880"/>
            <a:ext cx="14414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22800" y="5070600"/>
            <a:ext cx="682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32280" y="507060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32280" y="3166920"/>
            <a:ext cx="1079280" cy="1062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36338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2914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32000" y="24494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32000" y="1960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32000" y="12207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11160" y="3257640"/>
            <a:ext cx="1968840" cy="831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11160" y="351792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3280" y="118839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36760" y="1124892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05080" y="10083960"/>
            <a:ext cx="863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11160" y="1643040"/>
            <a:ext cx="1968840" cy="5698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11160" y="229716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11160" y="2658960"/>
            <a:ext cx="1968840" cy="5144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11160" y="9202680"/>
            <a:ext cx="1968840" cy="1773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11160" y="11057040"/>
            <a:ext cx="1968840" cy="3236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11160" y="11472840"/>
            <a:ext cx="1968840" cy="9399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11160" y="955800"/>
            <a:ext cx="1968840" cy="546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7800" y="1430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7800" y="18064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7800" y="22906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7800" y="27590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7800" y="34783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7800" y="6515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7800" y="992520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7800" y="1108224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7800" y="11667960"/>
            <a:ext cx="122400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7800" y="122191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7800" y="10540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9600" y="104724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1035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3636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6092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41560" y="1197000"/>
            <a:ext cx="1427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35280" y="117216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7000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41560" y="988920"/>
            <a:ext cx="1859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tilities and 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35280" y="93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77920" y="1281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7792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7520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9600" y="143964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Discussion Foru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25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38160" y="17431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3816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5912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600" y="1790280"/>
            <a:ext cx="103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Image and 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784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38160" y="1857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38160" y="21016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3816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5912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41560" y="190656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35280" y="18738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41560" y="1654200"/>
            <a:ext cx="1378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16214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7000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600" y="234396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Link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22748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17640" y="23479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1764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8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41560" y="2314440"/>
            <a:ext cx="923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d Lin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35280" y="22802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7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9600" y="2757240"/>
            <a:ext cx="8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agazines, Lists, and 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2742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360" y="266544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360" y="290988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36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700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41560" y="28940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35280" y="2863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41560" y="2654280"/>
            <a:ext cx="779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35280" y="261936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75080" y="29811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7508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7236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9600" y="3536280"/>
            <a:ext cx="896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odel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3456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360" y="31687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360" y="341316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36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700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41560" y="354492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35280" y="349452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41560" y="3270240"/>
            <a:ext cx="1139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S Mode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35280" y="32310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5736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25464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86080" y="3932280"/>
            <a:ext cx="898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xed Forma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2852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41560" y="38178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rge / Mixed Collec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35280" y="37580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76440" y="39178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7644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27372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9600" y="653832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64760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800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0528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30480" y="504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38160" y="4998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30480" y="477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38160" y="47307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30480" y="4503600"/>
            <a:ext cx="1550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ercial 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38160" y="44629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30480" y="4235400"/>
            <a:ext cx="1479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mical/Molecular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38160" y="41958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673360" y="3860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673360" y="48387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7336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064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83080" y="4610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0480" y="7197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38160" y="71452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30480" y="69292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38160" y="68770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30480" y="66596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38160" y="6609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30480" y="63896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38160" y="6341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30480" y="611964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38160" y="60721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30480" y="58514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38160" y="58039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30480" y="558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38160" y="5536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30480" y="531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38160" y="52678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09720" y="484200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09720" y="679752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0972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8800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187880" y="77342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70440" y="77342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87880" y="74707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70440" y="74707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87880" y="72090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70440" y="72090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87880" y="6945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70440" y="69454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187880" y="66834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70440" y="66834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535800" y="62229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30480" y="854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oftWare Graphics - Mis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38160" y="84873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30480" y="827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38160" y="82184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130480" y="800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38160" y="79502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30480" y="77374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aytracing and Render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838160" y="76824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30480" y="7467480"/>
            <a:ext cx="157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s Under Develop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38160" y="74142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1944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1672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99040" y="874404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hotoShop and PSP Filter Plugi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81600" y="8731080"/>
            <a:ext cx="228600" cy="2448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99040" y="8470800"/>
            <a:ext cx="99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TP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81600" y="84708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35800" y="76770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30480" y="88153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38160" y="87555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19440" y="82659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1944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1672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9600" y="9928080"/>
            <a:ext cx="968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4000" y="9896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41560" y="1070460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39960" y="106473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041560" y="10488600"/>
            <a:ext cx="1860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839960" y="1040292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041560" y="10228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39960" y="10158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041560" y="10032840"/>
            <a:ext cx="1355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839960" y="9914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041560" y="978840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39960" y="96699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41560" y="9435960"/>
            <a:ext cx="171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839960" y="9425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41560" y="9220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39960" y="9181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79600" y="1112040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4000" y="11057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041560" y="11101320"/>
            <a:ext cx="1112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841400" y="110415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9600" y="117712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11724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041560" y="1217628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 and Scen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39960" y="120686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041560" y="1179504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cro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839960" y="11766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041560" y="11509200"/>
            <a:ext cx="1022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839960" y="11463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79600" y="122475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eople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121878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81600" y="389304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186080" y="368784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81600" y="364860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186080" y="3443400"/>
            <a:ext cx="401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X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81600" y="340416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186080" y="319896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981600" y="315972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844280" y="288720"/>
            <a:ext cx="230508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476360" y="727704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170080" y="6692760"/>
            <a:ext cx="1968480" cy="111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874880" y="384336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173320" y="2978280"/>
            <a:ext cx="1968480" cy="35287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189160" y="299412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93720" y="97236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170080" y="7155000"/>
            <a:ext cx="1968480" cy="28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54440" y="343368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170080" y="32814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286160" y="2978280"/>
            <a:ext cx="1797120" cy="19191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76560" y="5924520"/>
            <a:ext cx="24768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8160" y="210492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95160" y="932184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68160" y="3643200"/>
            <a:ext cx="1224000" cy="411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68160" y="2540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76440" y="801360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95160" y="105616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40160" y="745596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05000" y="74469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39960" y="207000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84360" y="2116080"/>
            <a:ext cx="2268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192560" y="12240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5280" y="15825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5280" y="158256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03440" y="149688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65160" y="977688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04880" y="9711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1580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50344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42800" y="2390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08160" y="22176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66960" y="931968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2800" y="28940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39960" y="362268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4360" y="368028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41440" y="378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490840" y="59482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494080" y="43704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176560" y="4286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816520" y="4335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490840" y="32986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176560" y="321948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490840" y="3022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176560" y="295488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490840" y="3579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176560" y="3486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490840" y="680400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98520" y="674424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486160" y="617868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176560" y="613152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90840" y="48830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176560" y="4818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490840" y="4641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76560" y="455292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494080" y="411012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548240" y="40687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330800" y="406872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48240" y="380520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330800" y="380520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548240" y="3543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330800" y="35434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548240" y="3279600"/>
            <a:ext cx="143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330800" y="3279600"/>
            <a:ext cx="228600" cy="2448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48240" y="301788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330800" y="3017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490840" y="717552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198520" y="71172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490840" y="541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176560" y="5351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490840" y="514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176560" y="508536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152880" y="652464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490840" y="5692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176560" y="5618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152880" y="77468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939960" y="25779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74640" y="25113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47880" y="811692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4880" y="80517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966960" y="1059012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04880" y="10530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4360" y="852156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55800" y="855036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04880" y="848988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76440" y="154764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26920" y="1582560"/>
            <a:ext cx="1522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84360" y="1522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84360" y="892008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8400" y="8907480"/>
            <a:ext cx="23832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955800" y="891828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68160" y="71326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39960" y="711180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04880" y="712152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540160" y="383328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176560" y="375336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549680" y="432288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0480" y="10136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06480" y="1016640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04880" y="10112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d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343400" y="4322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171880" y="399780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0200" y="9307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213000" y="725400"/>
            <a:ext cx="505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575160" y="725400"/>
            <a:ext cx="14292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575160" y="1057320"/>
            <a:ext cx="14292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789360" y="770040"/>
            <a:ext cx="1728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w Maintenance Categori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789360" y="109224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556160" y="45799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346640" y="45766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4095720" y="48880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187880" y="4680000"/>
            <a:ext cx="1968480" cy="86508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262400" y="4681440"/>
            <a:ext cx="1897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tricted to  content related to POV-Ray. For example, Designed specifically for POV-Ray or outputs in a  POV-Ray specific forma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005360" y="64832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029120" y="67327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981600" y="6986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476360" y="674676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170080" y="6162840"/>
            <a:ext cx="1968480" cy="11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178160" y="6408720"/>
            <a:ext cx="1698840" cy="72072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246560" y="662472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or 3 Link to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 ea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835280" y="1028556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954080" y="1016316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978200" y="101869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elated Development Initiat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787400" y="2131920"/>
            <a:ext cx="19080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835280" y="107236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785960" y="1138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785960" y="172728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808280" y="82454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785960" y="880596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785960" y="9434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785960" y="9877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874880" y="331308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173320" y="2448000"/>
            <a:ext cx="1968480" cy="3529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189160" y="246384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79440" y="7516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93720" y="9764640"/>
            <a:ext cx="122400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170080" y="6624720"/>
            <a:ext cx="1968480" cy="285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754440" y="290340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170080" y="275112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286160" y="2448000"/>
            <a:ext cx="1797120" cy="1873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176560" y="539424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952640" y="9779040"/>
            <a:ext cx="1968480" cy="285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32120" y="2055960"/>
            <a:ext cx="1968480" cy="22860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68160" y="157464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95160" y="93250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68160" y="3112920"/>
            <a:ext cx="1224000" cy="4114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68160" y="20098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76440" y="748332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5160" y="106124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540160" y="692604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205000" y="685008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197080" y="705168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939960" y="153972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84360" y="1586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192560" y="693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5280" y="1052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95280" y="1052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503440" y="9669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965160" y="981792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92280" y="9676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1580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978200" y="979632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Link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63560" y="981864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50344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42800" y="1860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008160" y="16876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966960" y="932292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42800" y="2363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939960" y="309240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4360" y="31496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41440" y="3257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490840" y="54180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008080" y="5335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494080" y="38401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176560" y="3756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00808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008080" y="62917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816520" y="38052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490840" y="27687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176560" y="26892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490840" y="249228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176560" y="2424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490840" y="3049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17656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490840" y="627372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19852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486160" y="56484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176560" y="5601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490840" y="435276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176560" y="42883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490840" y="411156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176560" y="40226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494080" y="3579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176560" y="3489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548240" y="35384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330800" y="35384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548240" y="32749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30800" y="32749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548240" y="30132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330800" y="30132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548240" y="27496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330800" y="27496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548240" y="24876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330800" y="24876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490840" y="664524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8520" y="6586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490840" y="488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176560" y="4821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490840" y="461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176560" y="4555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198520" y="6287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152880" y="59943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027160" y="67406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027160" y="65530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490840" y="5162400"/>
            <a:ext cx="130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176560" y="50878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152880" y="7216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425680" y="1180800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170080" y="1177668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505240" y="1359864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303640" y="13541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503440" y="13382640"/>
            <a:ext cx="1671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303640" y="132969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505240" y="13122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303640" y="13052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505240" y="1292688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303640" y="12808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505240" y="1268244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303640" y="125640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505240" y="12330000"/>
            <a:ext cx="171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03640" y="123195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505240" y="12114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03640" y="12075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939960" y="204804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84360" y="1895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55640" y="207324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947880" y="758664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31720" y="74379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9840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90480" y="7435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3172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966960" y="106408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11360" y="10581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387360" y="9122400"/>
            <a:ext cx="609480" cy="644040"/>
            <a:chOff x="387360" y="9122400"/>
            <a:chExt cx="609480" cy="644040"/>
          </a:xfrm>
        </p:grpSpPr>
        <p:sp>
          <p:nvSpPr>
            <p:cNvPr id="509" name=""/>
            <p:cNvSpPr/>
            <p:nvPr/>
          </p:nvSpPr>
          <p:spPr>
            <a:xfrm>
              <a:off x="387360" y="9122400"/>
              <a:ext cx="2271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7360" y="946224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736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4772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47720" y="9123480"/>
              <a:ext cx="249120" cy="30492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63400" y="946224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63400" y="929232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63400" y="912240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684360" y="812484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955800" y="815328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00200" y="8093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946160" y="8051760"/>
            <a:ext cx="1968480" cy="43200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969920" y="7980480"/>
            <a:ext cx="1343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ing Index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969920" y="81360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TC Winners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969920" y="8267760"/>
            <a:ext cx="1486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ll of Fame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76440" y="1017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930320" y="868320"/>
            <a:ext cx="1968480" cy="61596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954080" y="809640"/>
            <a:ext cx="201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rinciples of Raytracing (Wikipedi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954080" y="1052640"/>
            <a:ext cx="1847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istory of POV-Ray/DKBTrace (Documentation 1.1.5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954080" y="9172440"/>
            <a:ext cx="1968480" cy="582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978200" y="9161640"/>
            <a:ext cx="20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3DS Models,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978200" y="939636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Model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978200" y="95551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 or 5 Very Large Model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826920" y="105264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467160" y="9504360"/>
            <a:ext cx="576360" cy="417600"/>
          </a:xfrm>
          <a:custGeom>
            <a:avLst/>
            <a:gdLst/>
            <a:ahLst/>
            <a:rect l="l" t="t" r="r" b="b"/>
            <a:pathLst>
              <a:path w="363" h="451">
                <a:moveTo>
                  <a:pt x="0" y="26"/>
                </a:moveTo>
                <a:cubicBezTo>
                  <a:pt x="51" y="31"/>
                  <a:pt x="250" y="0"/>
                  <a:pt x="306" y="53"/>
                </a:cubicBezTo>
                <a:cubicBezTo>
                  <a:pt x="363" y="106"/>
                  <a:pt x="347" y="279"/>
                  <a:pt x="341" y="343"/>
                </a:cubicBezTo>
                <a:cubicBezTo>
                  <a:pt x="336" y="406"/>
                  <a:pt x="284" y="423"/>
                  <a:pt x="271" y="437"/>
                </a:cubicBezTo>
                <a:cubicBezTo>
                  <a:pt x="258" y="451"/>
                  <a:pt x="265" y="429"/>
                  <a:pt x="263" y="427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962000" y="12398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55480" y="8672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08120" y="118008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27120" y="10112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932120" y="1515960"/>
            <a:ext cx="1968480" cy="5050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955880" y="161136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Grou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er Groups (Moray etc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n-POV-Ray Specific (but relat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954080" y="2028960"/>
            <a:ext cx="1897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Relate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84360" y="8694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947960" y="8521560"/>
            <a:ext cx="1968480" cy="6238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971720" y="8537400"/>
            <a:ext cx="201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downloadable Image File Typ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971720" y="8767800"/>
            <a:ext cx="1903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Image/Texture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971720" y="8913960"/>
            <a:ext cx="1469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or 6 Very Large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8578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06600" y="87296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62040" y="885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955800" y="869292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786120" y="8842320"/>
            <a:ext cx="417600" cy="1085760"/>
          </a:xfrm>
          <a:custGeom>
            <a:avLst/>
            <a:gdLst/>
            <a:ahLst/>
            <a:rect l="l" t="t" r="r" b="b"/>
            <a:pathLst>
              <a:path w="263" h="952">
                <a:moveTo>
                  <a:pt x="0" y="55"/>
                </a:moveTo>
                <a:cubicBezTo>
                  <a:pt x="38" y="64"/>
                  <a:pt x="179" y="0"/>
                  <a:pt x="221" y="110"/>
                </a:cubicBezTo>
                <a:cubicBezTo>
                  <a:pt x="263" y="220"/>
                  <a:pt x="255" y="584"/>
                  <a:pt x="250" y="718"/>
                </a:cubicBezTo>
                <a:cubicBezTo>
                  <a:pt x="245" y="852"/>
                  <a:pt x="223" y="882"/>
                  <a:pt x="192" y="917"/>
                </a:cubicBezTo>
                <a:cubicBezTo>
                  <a:pt x="160" y="952"/>
                  <a:pt x="91" y="928"/>
                  <a:pt x="65" y="930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68160" y="66024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939960" y="658152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84360" y="65631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50920" y="8294760"/>
            <a:ext cx="469800" cy="243504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22200" y="3313080"/>
            <a:ext cx="354240" cy="338292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540160" y="330300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176560" y="3223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549680" y="379260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954080" y="1060128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978200" y="1069344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Member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of Assistance to 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90480" y="101869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906480" y="1021716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17480" y="101631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120760" y="11304720"/>
            <a:ext cx="1967040" cy="2592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143080" y="11449080"/>
            <a:ext cx="2006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To Be Removed or merged into Category  9/10 – ‘Links Sites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076640" y="647640"/>
            <a:ext cx="504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438800" y="647640"/>
            <a:ext cx="14256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438800" y="979560"/>
            <a:ext cx="14256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403880" y="1617840"/>
            <a:ext cx="25056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53000" y="692280"/>
            <a:ext cx="1512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mall number of Static link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653000" y="101448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653000" y="132552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ies to be delet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653000" y="1608120"/>
            <a:ext cx="1297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oss Reference to current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438800" y="1311120"/>
            <a:ext cx="142560" cy="287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384800" y="3828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00808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892680" y="7105680"/>
            <a:ext cx="1427040" cy="2955960"/>
          </a:xfrm>
          <a:custGeom>
            <a:avLst/>
            <a:gdLst/>
            <a:ahLst/>
            <a:rect l="l" t="t" r="r" b="b"/>
            <a:pathLst>
              <a:path w="899" h="1862">
                <a:moveTo>
                  <a:pt x="866" y="0"/>
                </a:moveTo>
                <a:cubicBezTo>
                  <a:pt x="861" y="29"/>
                  <a:pt x="899" y="97"/>
                  <a:pt x="836" y="174"/>
                </a:cubicBezTo>
                <a:cubicBezTo>
                  <a:pt x="773" y="251"/>
                  <a:pt x="567" y="217"/>
                  <a:pt x="488" y="462"/>
                </a:cubicBezTo>
                <a:cubicBezTo>
                  <a:pt x="409" y="707"/>
                  <a:pt x="443" y="1426"/>
                  <a:pt x="362" y="1644"/>
                </a:cubicBezTo>
                <a:cubicBezTo>
                  <a:pt x="281" y="1862"/>
                  <a:pt x="75" y="1742"/>
                  <a:pt x="0" y="1768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556160" y="40086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389480" y="4044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781360" y="504720"/>
            <a:ext cx="10699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42720" y="1079280"/>
            <a:ext cx="6172200" cy="117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inks within the categories shown in blue would be heavily trimmed. We would be highly selective, only targetting other major sites. E.g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oog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ikiped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small number of major, well established reposit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ose shown in green would be more dynamic, with contributions being accepted from the POV-Ray community (still filtered through an administrator). Anyone with appropriate materials could get their links added to these categor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18:03:50Z</dcterms:created>
  <dc:creator>Chris Bartlett</dc:creator>
  <dc:description/>
  <dc:language>en-US</dc:language>
  <cp:lastModifiedBy>Chris Bartlett</cp:lastModifiedBy>
  <dcterms:modified xsi:type="dcterms:W3CDTF">2006-05-09T11:46:28Z</dcterms:modified>
  <cp:revision>150</cp:revision>
  <dc:subject/>
  <dc:title>Slide 1</dc:title>
</cp:coreProperties>
</file>